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2080" y="392544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1704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232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5292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208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232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5292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52080" y="228240"/>
            <a:ext cx="7542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21704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2080" y="392544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1704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0232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52920" y="121896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5208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0232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52920" y="3925440"/>
            <a:ext cx="24285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2080" y="228240"/>
            <a:ext cx="7542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17040" y="392544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17040" y="1218960"/>
            <a:ext cx="368064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2080" y="3925440"/>
            <a:ext cx="7542360" cy="24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4320" indent="-16992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4280" indent="-112680"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47960" indent="-119160"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47960" indent="-119160"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47960" indent="-119160">
              <a:spcBef>
                <a:spcPts val="601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4760" y="6477120"/>
            <a:ext cx="609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1481-D287-46F0-959B-32C05BCA4674}" type="datetime5">
              <a:rPr b="0" lang="en-GB" sz="800" spc="-1" strike="noStrike">
                <a:solidFill>
                  <a:srgbClr val="808080"/>
                </a:solidFill>
                <a:latin typeface="Arial Narrow"/>
              </a:rPr>
              <a:t>28 Jul 2026</a:t>
            </a:fld>
            <a:r>
              <a:rPr b="0" lang="en-GB" sz="8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7880" y="6483240"/>
            <a:ext cx="133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 Narrow"/>
              </a:rPr>
              <a:t>© TeamWARE Group Oy 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0"/>
            <a:ext cx="990720" cy="685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12040" y="198360"/>
            <a:ext cx="608040" cy="303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7360" y="5715000"/>
            <a:ext cx="696960" cy="927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585520" y="6477120"/>
            <a:ext cx="1295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 Narrow"/>
              </a:rPr>
              <a:t>/</a:t>
            </a:r>
            <a:r>
              <a:rPr b="0" lang="en-GB" sz="800" spc="-1" strike="noStrike">
                <a:solidFill>
                  <a:srgbClr val="808080"/>
                </a:solidFill>
                <a:latin typeface="Arial Narrow"/>
              </a:rPr>
              <a:t>&lt;footer&gt;</a:t>
            </a:r>
            <a:r>
              <a:rPr b="0" lang="en-GB" sz="800" spc="-1" strike="noStrike">
                <a:solidFill>
                  <a:srgbClr val="808080"/>
                </a:solidFill>
                <a:latin typeface="Arial Narrow"/>
              </a:rPr>
              <a:t>    page </a:t>
            </a:r>
            <a:fld id="{DCA0734F-B37A-443E-9499-6EB42C4F7650}" type="slidenum">
              <a:rPr b="0" lang="en-GB" sz="8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r>
              <a:rPr b="0" lang="en-GB" sz="8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1905120" y="6477120"/>
            <a:ext cx="8380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5FD5-604A-4C10-9EFB-312B708D7AC2}" type="datetime5">
              <a:rPr b="0" lang="en-GB" sz="800" spc="-1" strike="noStrike">
                <a:solidFill>
                  <a:srgbClr val="808080"/>
                </a:solidFill>
                <a:latin typeface="Arial Narrow"/>
              </a:rPr>
              <a:t>28 Jul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880" y="6483240"/>
            <a:ext cx="1337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 Narrow"/>
              </a:rPr>
              <a:t>© TeamWARE Group Oy 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05920" y="203040"/>
            <a:ext cx="622080" cy="309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302680" y="5715000"/>
            <a:ext cx="701640" cy="936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259056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 Narrow"/>
              </a:rPr>
              <a:t>/</a:t>
            </a:r>
            <a:r>
              <a:rPr b="0" lang="en-GB" sz="800" spc="-1" strike="noStrike">
                <a:solidFill>
                  <a:srgbClr val="808080"/>
                </a:solidFill>
                <a:latin typeface="Arial Narrow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fficePower Web – Customisation Cookbook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Using OfficePower 2000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680" y="28191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llan Mor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utumn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8360" y="5500800"/>
            <a:ext cx="28688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 Narrow"/>
              </a:rPr>
              <a:t>www.officepower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B4DBEC-ED69-4F71-BC2E-8AD873C25A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ample Simple Display Form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2952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838080"/>
            <a:ext cx="7543800" cy="55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&lt;!-- S2Text String!text!2!30!1,Date!date!3!10!0 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_o_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_o_reco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able bgcolor="#ffffff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 Text String: &lt;/td&gt;&lt;td&gt; 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text!2!30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 Number:      &lt;/td&gt;&lt;td&gt; 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number!X!5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 Date:           &lt;/td&gt;&lt;td&gt; 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date!3!10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 Time:          &lt;/td&gt;&lt;td&gt; 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time!4!10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 Duration:    &lt;/td&gt;&lt;td&gt; 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duration!5!5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 Selection:   &lt;/td&gt;&lt;td&gt;  &lt;table border=0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1st: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selection!W!01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td&gt;&lt;/tr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2nd: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selection!W!02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3rd: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selection!W!03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 Yes or No:   &lt;/td&gt;&lt;td&gt; 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yesno!7!2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 Larger Text: &lt;/td&gt;&lt;td&gt; 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largertext!2!500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&lt;/td&gt;&lt;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D3A2C-60C4-4D9B-9977-CEEB96DFA2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Datafile Update Form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 Forms include more complex HTML and can be provided with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JavaScrip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ield vali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datafile field is provided with an HTML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input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ag which is embedded in a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form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input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ag is def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input type=“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ex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name=“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field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value=“</a:t>
            </a:r>
            <a:r>
              <a:rPr b="0" lang="en-GB" sz="2400" spc="-1" strike="noStrike">
                <a:solidFill>
                  <a:srgbClr val="00cc00"/>
                </a:solidFill>
                <a:latin typeface="Arial"/>
              </a:rPr>
              <a:t>infi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4939E-6B86-48E7-AFF0-A30ABF5DC3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pdate Form &lt;input&gt; Field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/Date/Time/Duration/Number field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input type=“text” name=“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fiel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” value=“_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o_field!</a:t>
            </a:r>
            <a:r>
              <a:rPr b="0" lang="en-GB" sz="1400" spc="-1" strike="noStrike">
                <a:solidFill>
                  <a:srgbClr val="3399ff"/>
                </a:solidFill>
                <a:latin typeface="Arial"/>
              </a:rPr>
              <a:t>TYPE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!3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” size=30 maxlength=50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TY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alu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B1935-1798-426A-B98C-BD0709C198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Update Forms &lt;input&gt; Fields (cont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fields are displayed as HTM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d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tons (and are type V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input type=“radio” name=“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 value=“</a:t>
            </a:r>
            <a:r>
              <a:rPr b="0" lang="en-US" sz="1400" spc="-1" strike="noStrike">
                <a:solidFill>
                  <a:srgbClr val="3399ff"/>
                </a:solidFill>
                <a:latin typeface="Arial"/>
              </a:rPr>
              <a:t>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_o_field!V!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input type=“radio” name=“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 value=“</a:t>
            </a:r>
            <a:r>
              <a:rPr b="0" lang="en-US" sz="1400" spc="-1" strike="noStrike">
                <a:solidFill>
                  <a:srgbClr val="3399ff"/>
                </a:solidFill>
                <a:latin typeface="Arial"/>
              </a:rPr>
              <a:t>0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_o_field!V!0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-or-No fields are displayed as HTM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heckb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ttons (and are type 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input type=“checkbox” name=“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” value=“”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_o_field!G!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B1974-ABF5-4BC2-94B0-303FFCCD85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cord Saving and &lt;form&gt; Defini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rovide record </a:t>
            </a: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update/saveasnew/canc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uttons, standard button definitions and associat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JavaScrip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nctions must be available on your update form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siest way to build a form is to copy the example page: </a:t>
            </a:r>
            <a:r>
              <a:rPr b="0" i="1" lang="en-GB" sz="2400" spc="-1" strike="noStrike">
                <a:solidFill>
                  <a:srgbClr val="3333cc"/>
                </a:solidFill>
                <a:latin typeface="Arial"/>
              </a:rPr>
              <a:t>$hp/programs/opweb/udapu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ncludes all the scripts and buttons you ne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dd your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input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ags and it’s ready for tes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E8504-20AE-45EC-8AFD-FCC65C65B0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ample Update Form (3 slides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838080"/>
            <a:ext cx="4572000" cy="55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html&gt;&lt;head&gt;&lt;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update_mod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cord&lt;/title&gt;&lt;/head&gt;&lt;scrip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nction save_as_new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ocument.udapu.operation.value="saveasnew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ocument.udapu.subm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nction update_recor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ocument.udapu.operation.value="update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ocument.udapu.subm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unction close_window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f (confirm("Exit without saving record?"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lf.clos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turn fal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script&gt;&lt;/head&gt;&lt;body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bg!F!1 bgcolor="_o_sc!K!1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CF1A3-A9D9-452D-A571-6501C3EA6E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685800"/>
            <a:ext cx="7924680" cy="59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form name="udapu“ action="recmod.htm?id=_o_id!H!1&amp;name=_o_on!M!1&amp;type=_o_ot!I!1&amp;rec=_o_rc!0!1&amp;sort=_o_sort!N!1&amp;srch=_o_srch!Z!1&amp;op=_o_om!a!1&amp;" method="post" enctype="multipart/form-data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input type="hidden" name="operation" value="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ab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Text:&lt;/td&gt;&lt;td&gt; &lt;input type="text" name="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tex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" value=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text!2!30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" size=30 maxlength=50&gt; 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Number:&lt;/td&gt;&lt;td&gt; &lt;input type="text" name="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number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" value=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number!X!10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" size=10 maxlength=10&gt; 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Date:&lt;/td&gt;&lt;td&gt; &lt;input type="text" name="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dat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" value=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date!3!8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" size=8 maxlength=8&gt; 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Time:&lt;/td&gt;&lt;td&gt; &lt;input type="text" name="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ti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" value=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time!4!5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" size=5 maxlength=5&gt; 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Duration:&lt;/td&gt;&lt;td&gt;&lt;input type="text" name=“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dura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" value="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duration!5!5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" size=5 maxlength=5&gt; 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Selection:&lt;/td&gt;&lt;t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st: &lt;input type="radio" name="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selec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" value="01"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selection!V!01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nd: &lt;input type="radio" name="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selec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" value="02"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selection!V!02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rd: &lt;input type="radio" name="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selec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" value="03"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selection!V!03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&gt;YesNo:&lt;/td&gt;&lt;td&gt; &lt;input type="checkbox" name=“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yesno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" value=""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yesno!G!1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gt; 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tr&gt;&lt;td colspan=2&gt;&lt;textarea name="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largertex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" cols=40 rows=5 wrap=physical&gt;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largertext!2!100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textarea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td&gt;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table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65A67-4A36-4A01-A4D9-8AAE861CEA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609480"/>
            <a:ext cx="7696080" cy="41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input type="button" name="recsub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update_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nClick='update_record();return false;'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_o_saveas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input type="button" name="reccan" value="Cancel" onClick='close_window();return false'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scrip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ocument.udapu.</a:t>
            </a:r>
            <a:r>
              <a:rPr b="1" lang="en-GB" sz="1200" spc="-1" strike="noStrike">
                <a:solidFill>
                  <a:srgbClr val="3333cc"/>
                </a:solidFill>
                <a:latin typeface="Arial"/>
              </a:rPr>
              <a:t>tex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focus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5E365-A19F-4BAC-B546-63BA16DD37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ing Lookup Tables and Text Box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input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ext fields you can force selection from a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lookup t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replacing the text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input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ag with a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select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a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select name=“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fiel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”&gt;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_ o_field!U!1!public/tables/titles!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sel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large text (multi-line) fields, use a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textarea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a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textarea name=“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fiel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” cols=50 rows=5 wrap=physical&gt;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_o_field!2!200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&lt;/textare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FC42F-7F6F-4CDC-9593-BAC007D9F5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dding Graphics and Link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static graphics on update forms use a normal HTML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img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a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img src=“graphic.gif” height=30 width=4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graphics must be stored in $hp/programs/opwe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graphics in text fields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ttp://opimglink?opname?height?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ttp://opimglink?allan/external/picture?30?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object links in text fields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ttp://opweblink?type?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ttp://opweblink?wfwdoc?allan/winword./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DBA6B-DB47-41EE-B4C0-97E6611A14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fficePower Web – Customisation Cookbook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36939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ficePower/Xtra V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date/View Data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ised Datafil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ised User Tem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 Links/Email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ion Fo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99040" y="1218960"/>
            <a:ext cx="36957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ficePower 2000 (be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Document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Data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age/Object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User Customisation (with data entry fo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file Changes, Full Screen Mode, Password Expiry, More Mail, Marked- Set Mail Delete, Mail Redirect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more next yea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FAE72-D77E-412A-B465-49C17305FB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reating an Intranet from the Beginni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Intranet pages are stored in a special area of filestore nominated by you (configured in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$hp/admin/opweb/public_are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create sub-directories below this location as required to store HTML pages or any type of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ccessing the server with a browser the normal first page is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oplogin.h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create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$hp/programs/opweb/index.h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n this will become your default front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art from index.htm, all other Intranet pages are stored in your public area and have a URL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http://servername/oppublic/web/mypag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996A6-A51A-409D-9C53-E45E594996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inks from your Front Pag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add links from your front page to a variety of objects or services – or link to services on the OP server direct from your existing Intranet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system infills to display the server name, last page modification time and number of vis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links to Discussion Foru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ttp://servername/oppublic/web/web_forum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links to Web Search (for searching your Intranet HTML pages and/or  documents held in a public folde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ttp://servername/oppublic/web/web_search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 pages from mail filters (see example in manu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direct access to documents or data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90C3A-F0A9-47C6-9983-93CDE8AE44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eb Forum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rator can create/delete Forums using the tool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$hp/programs/opweb/forum_adm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s can then create Messages within a Forum or reply to other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rontab command can be added which will automatically expire messages after a certa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PI is also provided to store messages directly from UNIX shell-scripts or mail fil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5C558-7A13-429D-BBD3-7F155453DE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eb Search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s your Intranet (HTML and most other objects) to be searchable with simple search interface and results disp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rator can also nominate a folder in public user filestore to hold OP documents or WFW/WPF/AMI documents which can also be searchable via same search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s can be added to your Intranet pages to access documents in the public filestore di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s can publish direct to the Intranet simply by copying a document to the public folder in Office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98E5A-8B6D-40FD-A2CD-148412B2DA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tting up Web Search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27520" indent="-227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e PowerSearch is configured and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n the commands required to index your Intranet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igure the name of the Public folder and enable it for PowerSearch index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able direct access to Public folder documents. They are accessed via a URL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ttp://servername/pubdocs/myfolder/welcom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OP documents have an .html extension and are converted when display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520" indent="-227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a link to the web_search page from your Intranet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C893C-BFF4-4F26-8E54-E582EB7E70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ocument Titles and Content Summar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used with Web Search, documents aquire titles from the document attributes and up to 250 characters of content. These are displayed as part of the search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tles and Content also available on document object details page in OP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be available in more places in full OP 2000 re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10531-C9C7-468B-ADB8-B98A8FAC13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ustomised Applica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s can be provided with customised startup criteria which enables them to be used for particular functions, for example they can be restrict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dating a shared data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records to a data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ing mail from customised mailing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 in the manual on providing users with cut-down or specific icons and start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F0C50-AE42-4B69-91DC-69FAECC631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gistering customised pag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le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$hp/admin/opweb/user_sta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ntrols which page users start with and looks l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name &lt;tab&gt; page to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dfuser    dfstar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 create new pages (such as customised options pages) they must be entered into the web server page file: 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$hp/programs/opweb/webc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This is not required for succ/fail p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name &lt;tab&gt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newoptions.htm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changing these files, stop and start the web server via the /etc/init.d/opweb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0CD94-F403-4D88-8730-D886ED5F35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ustomised Examples - 1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TML for these examples are in the hando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logs in and only sees a shared datafile which can be upd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s a start page which loads two pa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displays some of the standard icons (such as logou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other opens the datafile in shared mode u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cc00"/>
                </a:solidFill>
                <a:latin typeface="Arial"/>
              </a:rPr>
              <a:t>opshare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name=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ser/datafiles/df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type=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atafi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rec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1B213-ED42-49A8-B754-9B67E6542D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ustomised Examples - 2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stionnaire example where only the create record page is displayed and includes customised success/failure p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 page u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cc00"/>
                </a:solidFill>
                <a:latin typeface="Arial"/>
              </a:rPr>
              <a:t>recmod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name=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ser/datafiles/df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type=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atafi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c=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sort=&amp;srch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op=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openmode=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rec=0 and op=create ensure create mode is used. openmode=2 ensures datafile is opened in shared m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5CC48-DB18-4989-AF09-2D060D981E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Datafile and Intranet Customisation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Topic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ised Datafile Forms (Display &amp; Upda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ing an Intranet from the begi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ing Forum and Search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ing in public doc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ing a customised user session for datafile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stionnaire and feedback customisation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812C9-27C4-45C7-BC0F-7FE8EDF6A3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Customised Examples – 2 (cont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ustomised update form for the datafile contains the following additional fields in the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&lt;form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ge 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form action= “…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c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ansok.ht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fai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ansfail.ht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ustomus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us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…&amp;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c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fai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ields point to two new pages which contain text appropriate to their use and allow the user to log out after submitting the rec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ustomus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ield is used to specify which username the success/failure pages are used with - normal update operation is unaffected for other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4C2A5-54A0-41A3-9A5C-559CC5DFCB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ustomised Examples - 3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example is a customised send mail page with success/failure p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 page 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cc00"/>
                </a:solidFill>
                <a:latin typeface="Arial"/>
              </a:rPr>
              <a:t>smail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custform=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smform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succ=</a:t>
            </a:r>
            <a:r>
              <a:rPr b="0" lang="en-GB" sz="1800" spc="-1" strike="noStrike">
                <a:solidFill>
                  <a:srgbClr val="3399ff"/>
                </a:solidFill>
                <a:latin typeface="Arial"/>
              </a:rPr>
              <a:t>smok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fail=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smfail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provide a customised send mail page (smform.htm above), copy the existing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$hp/programs/opweb/smail.ht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remove all the fields not required. Ensure </a:t>
            </a: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opsend_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opsend_c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xist as hidden fie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p: You could write a form with any type of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&lt;input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ields, store the results in a hidden text field via som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JavaScrip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send the results by mail. Alternatively you could lea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tach P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ile as an option for users to submit files to a pre-defined u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69711-20B2-4CB1-B4B9-052A6F6355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standard HTML with OP infills to customise your datafiles for view and up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in links to web pages, email addresses, pictures and other OP objects when entering text in 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 an Intranet from HTML pages and other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in Forum and Search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ow access to documents via public f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ise user ses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file only u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stionnaire user (customised create recor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age (customised mail se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DBE22-57A3-4745-B3DD-1B9C61DD99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Customised Datafile Form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file Web Forms are HTML pages containing special OfficePower datafile field inf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with existing datafiles, written on PC and stored alongside datafile via the datafile object details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be written as OP documents and then exported as ASCII to local UNIX file via </a:t>
            </a: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word.ex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ensure no header length in layout page and use wide rul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types of form: </a:t>
            </a: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displ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upd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ails provided via the help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755F2-AB67-46BA-B87A-E88C9A3299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Datafile field infill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2440" y="1218960"/>
            <a:ext cx="6657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ficePower datafiles contain the following field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s-or-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match directly for display and update via HTML text and </a:t>
            </a: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&lt;form&gt; &lt;input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a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315200" y="1218960"/>
            <a:ext cx="57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034D2-F9B3-4D42-AB94-A2085F487A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TML Page Writi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writing display forms infills are used inside a normal HTML page and are replaced by the value from the datafile when the page is displa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display </a:t>
            </a: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nfi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def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o_ </a:t>
            </a: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field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! </a:t>
            </a: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ty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! </a:t>
            </a: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     _o_myfieldname!2!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 fieldna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same as used in the datafile and OP word form doc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B65FA-9835-40A2-A442-5B489CD077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eld Typ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0066"/>
                </a:solidFill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alue (for display forms) is defin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ra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s_or_n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_o_date!3!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a date field in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0066"/>
                </a:solidFill>
                <a:latin typeface="Arial"/>
              </a:rPr>
              <a:t>leng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value is the maximum number of characters to display (except for selection fields where it indicates the occurr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47823-5C81-4D8A-B9AE-D6F7F1465D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TML Page Components – 1/2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mode display definition (first line in fil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 ! - - </a:t>
            </a: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3399ff"/>
                </a:solidFill>
                <a:latin typeface="Arial"/>
              </a:rPr>
              <a:t>Text Str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!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eldn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! </a:t>
            </a: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ty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! </a:t>
            </a: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le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l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… - -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Open Mode = S (shared), U (update), V (view), D (defa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ff"/>
                </a:solidFill>
                <a:latin typeface="Arial"/>
              </a:rPr>
              <a:t>Text label for column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ame of the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Type from the previous list (text, date, time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Arial"/>
              </a:rPr>
              <a:t>Maximum number of characters to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Link field, 0 or 1. If 1, field text is shown as a link to open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dy and record function infil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o_body   (sets page backgrounds, colours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o_recopts   (adds in send, update, copy, delete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95C87-E550-4F1F-B1B6-36D2AE577A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2080" y="228240"/>
            <a:ext cx="7542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TML Page Components – 2/2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2080" y="1218960"/>
            <a:ext cx="75423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, pictures and field inf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ge Footer Detai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at’s it. Your display form is ready to be stored alongside the datafile for all users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it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01F4A-B811-410F-8780-E29541349F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6T14:38:41Z</dcterms:created>
  <dc:creator>Maria Isotalo</dc:creator>
  <dc:description/>
  <dc:language>en-US</dc:language>
  <cp:lastModifiedBy>Iain Sewell</cp:lastModifiedBy>
  <dcterms:modified xsi:type="dcterms:W3CDTF">1999-12-15T15:24:26Z</dcterms:modified>
  <cp:revision>23</cp:revision>
  <dc:subject/>
  <dc:title>No Slide Title</dc:title>
</cp:coreProperties>
</file>