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bmp" ContentType="image/bmp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752840" cy="6856920"/>
            <a:chOff x="0" y="0"/>
            <a:chExt cx="1752840" cy="6856920"/>
          </a:xfrm>
        </p:grpSpPr>
        <p:sp>
          <p:nvSpPr>
            <p:cNvPr id="2" name=""/>
            <p:cNvSpPr/>
            <p:nvPr/>
          </p:nvSpPr>
          <p:spPr>
            <a:xfrm>
              <a:off x="123840" y="220680"/>
              <a:ext cx="1629000" cy="6636240"/>
            </a:xfrm>
            <a:custGeom>
              <a:avLst/>
              <a:gdLst/>
              <a:ahLst/>
              <a:rect l="0" t="0" r="r" b="b"/>
              <a:pathLst>
                <a:path w="4525" h="18434">
                  <a:moveTo>
                    <a:pt x="0" y="0"/>
                  </a:moveTo>
                  <a:lnTo>
                    <a:pt x="3202" y="0"/>
                  </a:lnTo>
                  <a:lnTo>
                    <a:pt x="3266" y="0"/>
                  </a:lnTo>
                  <a:lnTo>
                    <a:pt x="3472" y="101"/>
                  </a:lnTo>
                  <a:lnTo>
                    <a:pt x="3558" y="238"/>
                  </a:lnTo>
                  <a:lnTo>
                    <a:pt x="3647" y="286"/>
                  </a:lnTo>
                  <a:lnTo>
                    <a:pt x="3705" y="564"/>
                  </a:lnTo>
                  <a:lnTo>
                    <a:pt x="3763" y="749"/>
                  </a:lnTo>
                  <a:lnTo>
                    <a:pt x="3852" y="1119"/>
                  </a:lnTo>
                  <a:lnTo>
                    <a:pt x="3911" y="1494"/>
                  </a:lnTo>
                  <a:lnTo>
                    <a:pt x="3997" y="1864"/>
                  </a:lnTo>
                  <a:lnTo>
                    <a:pt x="4230" y="2050"/>
                  </a:lnTo>
                  <a:lnTo>
                    <a:pt x="4467" y="2142"/>
                  </a:lnTo>
                  <a:lnTo>
                    <a:pt x="4525" y="2283"/>
                  </a:lnTo>
                  <a:lnTo>
                    <a:pt x="4525" y="2561"/>
                  </a:lnTo>
                  <a:lnTo>
                    <a:pt x="4525" y="2839"/>
                  </a:lnTo>
                  <a:lnTo>
                    <a:pt x="4525" y="3116"/>
                  </a:lnTo>
                  <a:lnTo>
                    <a:pt x="4525" y="3302"/>
                  </a:lnTo>
                  <a:lnTo>
                    <a:pt x="4494" y="3672"/>
                  </a:lnTo>
                  <a:lnTo>
                    <a:pt x="4467" y="3954"/>
                  </a:lnTo>
                  <a:lnTo>
                    <a:pt x="4436" y="4324"/>
                  </a:lnTo>
                  <a:lnTo>
                    <a:pt x="4408" y="4461"/>
                  </a:lnTo>
                  <a:lnTo>
                    <a:pt x="4350" y="4558"/>
                  </a:lnTo>
                  <a:lnTo>
                    <a:pt x="4289" y="4652"/>
                  </a:lnTo>
                  <a:lnTo>
                    <a:pt x="4230" y="4788"/>
                  </a:lnTo>
                  <a:lnTo>
                    <a:pt x="4055" y="4881"/>
                  </a:lnTo>
                  <a:lnTo>
                    <a:pt x="3969" y="4973"/>
                  </a:lnTo>
                  <a:lnTo>
                    <a:pt x="3911" y="5115"/>
                  </a:lnTo>
                  <a:lnTo>
                    <a:pt x="3736" y="5159"/>
                  </a:lnTo>
                  <a:lnTo>
                    <a:pt x="3558" y="5251"/>
                  </a:lnTo>
                  <a:lnTo>
                    <a:pt x="3530" y="5533"/>
                  </a:lnTo>
                  <a:lnTo>
                    <a:pt x="3499" y="5904"/>
                  </a:lnTo>
                  <a:lnTo>
                    <a:pt x="3499" y="6040"/>
                  </a:lnTo>
                  <a:lnTo>
                    <a:pt x="3499" y="6230"/>
                  </a:lnTo>
                  <a:lnTo>
                    <a:pt x="3499" y="6693"/>
                  </a:lnTo>
                  <a:lnTo>
                    <a:pt x="3499" y="6830"/>
                  </a:lnTo>
                  <a:lnTo>
                    <a:pt x="3499" y="7112"/>
                  </a:lnTo>
                  <a:lnTo>
                    <a:pt x="3499" y="7297"/>
                  </a:lnTo>
                  <a:lnTo>
                    <a:pt x="3558" y="7760"/>
                  </a:lnTo>
                  <a:lnTo>
                    <a:pt x="3736" y="8130"/>
                  </a:lnTo>
                  <a:lnTo>
                    <a:pt x="3794" y="8271"/>
                  </a:lnTo>
                  <a:lnTo>
                    <a:pt x="3794" y="8549"/>
                  </a:lnTo>
                  <a:lnTo>
                    <a:pt x="3763" y="8734"/>
                  </a:lnTo>
                  <a:lnTo>
                    <a:pt x="3705" y="8919"/>
                  </a:lnTo>
                  <a:lnTo>
                    <a:pt x="3647" y="9197"/>
                  </a:lnTo>
                  <a:lnTo>
                    <a:pt x="3588" y="9338"/>
                  </a:lnTo>
                  <a:lnTo>
                    <a:pt x="3530" y="9475"/>
                  </a:lnTo>
                  <a:lnTo>
                    <a:pt x="3499" y="9894"/>
                  </a:lnTo>
                  <a:lnTo>
                    <a:pt x="3441" y="10171"/>
                  </a:lnTo>
                  <a:lnTo>
                    <a:pt x="3413" y="10453"/>
                  </a:lnTo>
                  <a:lnTo>
                    <a:pt x="3383" y="10731"/>
                  </a:lnTo>
                  <a:lnTo>
                    <a:pt x="3355" y="10868"/>
                  </a:lnTo>
                  <a:lnTo>
                    <a:pt x="3149" y="11009"/>
                  </a:lnTo>
                  <a:lnTo>
                    <a:pt x="2916" y="11102"/>
                  </a:lnTo>
                  <a:lnTo>
                    <a:pt x="2799" y="11243"/>
                  </a:lnTo>
                  <a:lnTo>
                    <a:pt x="2507" y="11613"/>
                  </a:lnTo>
                  <a:lnTo>
                    <a:pt x="2271" y="11891"/>
                  </a:lnTo>
                  <a:lnTo>
                    <a:pt x="2242" y="12032"/>
                  </a:lnTo>
                  <a:lnTo>
                    <a:pt x="2184" y="12217"/>
                  </a:lnTo>
                  <a:lnTo>
                    <a:pt x="2184" y="12495"/>
                  </a:lnTo>
                  <a:lnTo>
                    <a:pt x="2184" y="12865"/>
                  </a:lnTo>
                  <a:lnTo>
                    <a:pt x="2184" y="13143"/>
                  </a:lnTo>
                  <a:lnTo>
                    <a:pt x="2184" y="13513"/>
                  </a:lnTo>
                  <a:lnTo>
                    <a:pt x="2184" y="13795"/>
                  </a:lnTo>
                  <a:lnTo>
                    <a:pt x="2184" y="13933"/>
                  </a:lnTo>
                  <a:lnTo>
                    <a:pt x="2271" y="14074"/>
                  </a:lnTo>
                  <a:lnTo>
                    <a:pt x="2388" y="14167"/>
                  </a:lnTo>
                  <a:lnTo>
                    <a:pt x="2682" y="14259"/>
                  </a:lnTo>
                  <a:lnTo>
                    <a:pt x="2768" y="14396"/>
                  </a:lnTo>
                  <a:lnTo>
                    <a:pt x="2799" y="14537"/>
                  </a:lnTo>
                  <a:lnTo>
                    <a:pt x="2799" y="14722"/>
                  </a:lnTo>
                  <a:lnTo>
                    <a:pt x="2799" y="15092"/>
                  </a:lnTo>
                  <a:lnTo>
                    <a:pt x="2799" y="15233"/>
                  </a:lnTo>
                  <a:lnTo>
                    <a:pt x="2916" y="15696"/>
                  </a:lnTo>
                  <a:lnTo>
                    <a:pt x="3091" y="15789"/>
                  </a:lnTo>
                  <a:lnTo>
                    <a:pt x="3266" y="16067"/>
                  </a:lnTo>
                  <a:lnTo>
                    <a:pt x="3266" y="16208"/>
                  </a:lnTo>
                  <a:lnTo>
                    <a:pt x="3297" y="16393"/>
                  </a:lnTo>
                  <a:lnTo>
                    <a:pt x="3297" y="16578"/>
                  </a:lnTo>
                  <a:lnTo>
                    <a:pt x="3297" y="16719"/>
                  </a:lnTo>
                  <a:lnTo>
                    <a:pt x="3297" y="17089"/>
                  </a:lnTo>
                  <a:lnTo>
                    <a:pt x="3297" y="17601"/>
                  </a:lnTo>
                  <a:lnTo>
                    <a:pt x="3297" y="17738"/>
                  </a:lnTo>
                  <a:lnTo>
                    <a:pt x="3297" y="17879"/>
                  </a:lnTo>
                  <a:lnTo>
                    <a:pt x="3324" y="18020"/>
                  </a:lnTo>
                  <a:lnTo>
                    <a:pt x="3324" y="18156"/>
                  </a:lnTo>
                  <a:lnTo>
                    <a:pt x="3394" y="18434"/>
                  </a:lnTo>
                  <a:lnTo>
                    <a:pt x="58" y="1843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1629000" cy="6856920"/>
            </a:xfrm>
            <a:custGeom>
              <a:avLst/>
              <a:gdLst/>
              <a:ahLst/>
              <a:rect l="0" t="0" r="r" b="b"/>
              <a:pathLst>
                <a:path w="4525" h="19047">
                  <a:moveTo>
                    <a:pt x="0" y="0"/>
                  </a:moveTo>
                  <a:lnTo>
                    <a:pt x="3202" y="0"/>
                  </a:lnTo>
                  <a:lnTo>
                    <a:pt x="3266" y="0"/>
                  </a:lnTo>
                  <a:lnTo>
                    <a:pt x="3472" y="101"/>
                  </a:lnTo>
                  <a:lnTo>
                    <a:pt x="3558" y="238"/>
                  </a:lnTo>
                  <a:lnTo>
                    <a:pt x="3647" y="286"/>
                  </a:lnTo>
                  <a:lnTo>
                    <a:pt x="3705" y="564"/>
                  </a:lnTo>
                  <a:lnTo>
                    <a:pt x="3763" y="749"/>
                  </a:lnTo>
                  <a:lnTo>
                    <a:pt x="3852" y="1120"/>
                  </a:lnTo>
                  <a:lnTo>
                    <a:pt x="3911" y="1494"/>
                  </a:lnTo>
                  <a:lnTo>
                    <a:pt x="3997" y="1865"/>
                  </a:lnTo>
                  <a:lnTo>
                    <a:pt x="4230" y="2050"/>
                  </a:lnTo>
                  <a:lnTo>
                    <a:pt x="4467" y="2143"/>
                  </a:lnTo>
                  <a:lnTo>
                    <a:pt x="4525" y="2284"/>
                  </a:lnTo>
                  <a:lnTo>
                    <a:pt x="4525" y="2562"/>
                  </a:lnTo>
                  <a:lnTo>
                    <a:pt x="4525" y="2839"/>
                  </a:lnTo>
                  <a:lnTo>
                    <a:pt x="4525" y="3117"/>
                  </a:lnTo>
                  <a:lnTo>
                    <a:pt x="4525" y="3302"/>
                  </a:lnTo>
                  <a:lnTo>
                    <a:pt x="4494" y="3673"/>
                  </a:lnTo>
                  <a:lnTo>
                    <a:pt x="4467" y="3955"/>
                  </a:lnTo>
                  <a:lnTo>
                    <a:pt x="4436" y="4325"/>
                  </a:lnTo>
                  <a:lnTo>
                    <a:pt x="4408" y="4462"/>
                  </a:lnTo>
                  <a:lnTo>
                    <a:pt x="4350" y="4559"/>
                  </a:lnTo>
                  <a:lnTo>
                    <a:pt x="4289" y="4652"/>
                  </a:lnTo>
                  <a:lnTo>
                    <a:pt x="4230" y="4789"/>
                  </a:lnTo>
                  <a:lnTo>
                    <a:pt x="4055" y="4882"/>
                  </a:lnTo>
                  <a:lnTo>
                    <a:pt x="3969" y="4975"/>
                  </a:lnTo>
                  <a:lnTo>
                    <a:pt x="3911" y="5116"/>
                  </a:lnTo>
                  <a:lnTo>
                    <a:pt x="3736" y="5160"/>
                  </a:lnTo>
                  <a:lnTo>
                    <a:pt x="3558" y="5252"/>
                  </a:lnTo>
                  <a:lnTo>
                    <a:pt x="3530" y="5535"/>
                  </a:lnTo>
                  <a:lnTo>
                    <a:pt x="3499" y="5905"/>
                  </a:lnTo>
                  <a:lnTo>
                    <a:pt x="3499" y="6042"/>
                  </a:lnTo>
                  <a:lnTo>
                    <a:pt x="3499" y="6231"/>
                  </a:lnTo>
                  <a:lnTo>
                    <a:pt x="3499" y="6694"/>
                  </a:lnTo>
                  <a:lnTo>
                    <a:pt x="3499" y="6831"/>
                  </a:lnTo>
                  <a:lnTo>
                    <a:pt x="3499" y="7113"/>
                  </a:lnTo>
                  <a:lnTo>
                    <a:pt x="3499" y="7299"/>
                  </a:lnTo>
                  <a:lnTo>
                    <a:pt x="3558" y="7762"/>
                  </a:lnTo>
                  <a:lnTo>
                    <a:pt x="3736" y="8132"/>
                  </a:lnTo>
                  <a:lnTo>
                    <a:pt x="3794" y="8273"/>
                  </a:lnTo>
                  <a:lnTo>
                    <a:pt x="3794" y="8551"/>
                  </a:lnTo>
                  <a:lnTo>
                    <a:pt x="3763" y="8736"/>
                  </a:lnTo>
                  <a:lnTo>
                    <a:pt x="3705" y="8921"/>
                  </a:lnTo>
                  <a:lnTo>
                    <a:pt x="3647" y="9199"/>
                  </a:lnTo>
                  <a:lnTo>
                    <a:pt x="3588" y="9340"/>
                  </a:lnTo>
                  <a:lnTo>
                    <a:pt x="3530" y="9477"/>
                  </a:lnTo>
                  <a:lnTo>
                    <a:pt x="3499" y="9896"/>
                  </a:lnTo>
                  <a:lnTo>
                    <a:pt x="3441" y="10174"/>
                  </a:lnTo>
                  <a:lnTo>
                    <a:pt x="3413" y="10456"/>
                  </a:lnTo>
                  <a:lnTo>
                    <a:pt x="3383" y="10734"/>
                  </a:lnTo>
                  <a:lnTo>
                    <a:pt x="3355" y="10870"/>
                  </a:lnTo>
                  <a:lnTo>
                    <a:pt x="3149" y="11012"/>
                  </a:lnTo>
                  <a:lnTo>
                    <a:pt x="2916" y="11104"/>
                  </a:lnTo>
                  <a:lnTo>
                    <a:pt x="2799" y="11245"/>
                  </a:lnTo>
                  <a:lnTo>
                    <a:pt x="2507" y="11616"/>
                  </a:lnTo>
                  <a:lnTo>
                    <a:pt x="2271" y="11894"/>
                  </a:lnTo>
                  <a:lnTo>
                    <a:pt x="2242" y="12035"/>
                  </a:lnTo>
                  <a:lnTo>
                    <a:pt x="2184" y="12220"/>
                  </a:lnTo>
                  <a:lnTo>
                    <a:pt x="2184" y="12498"/>
                  </a:lnTo>
                  <a:lnTo>
                    <a:pt x="2184" y="12868"/>
                  </a:lnTo>
                  <a:lnTo>
                    <a:pt x="2184" y="13146"/>
                  </a:lnTo>
                  <a:lnTo>
                    <a:pt x="2184" y="13516"/>
                  </a:lnTo>
                  <a:lnTo>
                    <a:pt x="2184" y="13799"/>
                  </a:lnTo>
                  <a:lnTo>
                    <a:pt x="2184" y="13935"/>
                  </a:lnTo>
                  <a:lnTo>
                    <a:pt x="2271" y="14076"/>
                  </a:lnTo>
                  <a:lnTo>
                    <a:pt x="2388" y="14169"/>
                  </a:lnTo>
                  <a:lnTo>
                    <a:pt x="2682" y="14262"/>
                  </a:lnTo>
                  <a:lnTo>
                    <a:pt x="2768" y="14399"/>
                  </a:lnTo>
                  <a:lnTo>
                    <a:pt x="2799" y="14540"/>
                  </a:lnTo>
                  <a:lnTo>
                    <a:pt x="2799" y="14726"/>
                  </a:lnTo>
                  <a:lnTo>
                    <a:pt x="2799" y="15096"/>
                  </a:lnTo>
                  <a:lnTo>
                    <a:pt x="2799" y="15237"/>
                  </a:lnTo>
                  <a:lnTo>
                    <a:pt x="2916" y="15700"/>
                  </a:lnTo>
                  <a:lnTo>
                    <a:pt x="3091" y="15793"/>
                  </a:lnTo>
                  <a:lnTo>
                    <a:pt x="3266" y="16071"/>
                  </a:lnTo>
                  <a:lnTo>
                    <a:pt x="3266" y="16212"/>
                  </a:lnTo>
                  <a:lnTo>
                    <a:pt x="3297" y="16397"/>
                  </a:lnTo>
                  <a:lnTo>
                    <a:pt x="3297" y="16582"/>
                  </a:lnTo>
                  <a:lnTo>
                    <a:pt x="3297" y="16723"/>
                  </a:lnTo>
                  <a:lnTo>
                    <a:pt x="3297" y="17094"/>
                  </a:lnTo>
                  <a:lnTo>
                    <a:pt x="3297" y="17605"/>
                  </a:lnTo>
                  <a:lnTo>
                    <a:pt x="3297" y="17742"/>
                  </a:lnTo>
                  <a:lnTo>
                    <a:pt x="3297" y="17883"/>
                  </a:lnTo>
                  <a:lnTo>
                    <a:pt x="3324" y="18024"/>
                  </a:lnTo>
                  <a:lnTo>
                    <a:pt x="3324" y="18161"/>
                  </a:lnTo>
                  <a:lnTo>
                    <a:pt x="3355" y="18302"/>
                  </a:lnTo>
                  <a:lnTo>
                    <a:pt x="3355" y="18439"/>
                  </a:lnTo>
                  <a:lnTo>
                    <a:pt x="3297" y="18813"/>
                  </a:lnTo>
                  <a:lnTo>
                    <a:pt x="3266" y="18950"/>
                  </a:lnTo>
                  <a:lnTo>
                    <a:pt x="3208" y="19047"/>
                  </a:lnTo>
                  <a:lnTo>
                    <a:pt x="0" y="1904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554040" y="0"/>
            <a:ext cx="1080000" cy="6858360"/>
            <a:chOff x="554040" y="0"/>
            <a:chExt cx="1080000" cy="6858360"/>
          </a:xfrm>
        </p:grpSpPr>
        <p:sp>
          <p:nvSpPr>
            <p:cNvPr id="5" name=""/>
            <p:cNvSpPr/>
            <p:nvPr/>
          </p:nvSpPr>
          <p:spPr>
            <a:xfrm>
              <a:off x="1049400" y="760320"/>
              <a:ext cx="584640" cy="2126160"/>
            </a:xfrm>
            <a:custGeom>
              <a:avLst/>
              <a:gdLst/>
              <a:ahLst/>
              <a:rect l="0" t="0" r="r" b="b"/>
              <a:pathLst>
                <a:path w="1624" h="5906">
                  <a:moveTo>
                    <a:pt x="1596" y="255"/>
                  </a:moveTo>
                  <a:lnTo>
                    <a:pt x="1351" y="321"/>
                  </a:lnTo>
                  <a:lnTo>
                    <a:pt x="1351" y="463"/>
                  </a:lnTo>
                  <a:lnTo>
                    <a:pt x="1320" y="599"/>
                  </a:lnTo>
                  <a:lnTo>
                    <a:pt x="1320" y="740"/>
                  </a:lnTo>
                  <a:lnTo>
                    <a:pt x="1320" y="881"/>
                  </a:lnTo>
                  <a:lnTo>
                    <a:pt x="1292" y="1018"/>
                  </a:lnTo>
                  <a:lnTo>
                    <a:pt x="1262" y="1159"/>
                  </a:lnTo>
                  <a:lnTo>
                    <a:pt x="1262" y="1296"/>
                  </a:lnTo>
                  <a:lnTo>
                    <a:pt x="1262" y="1437"/>
                  </a:lnTo>
                  <a:lnTo>
                    <a:pt x="1262" y="1575"/>
                  </a:lnTo>
                  <a:lnTo>
                    <a:pt x="1234" y="1672"/>
                  </a:lnTo>
                  <a:lnTo>
                    <a:pt x="1202" y="1808"/>
                  </a:lnTo>
                  <a:lnTo>
                    <a:pt x="1174" y="1950"/>
                  </a:lnTo>
                  <a:lnTo>
                    <a:pt x="1057" y="2042"/>
                  </a:lnTo>
                  <a:lnTo>
                    <a:pt x="968" y="2042"/>
                  </a:lnTo>
                  <a:lnTo>
                    <a:pt x="882" y="2042"/>
                  </a:lnTo>
                  <a:lnTo>
                    <a:pt x="792" y="2042"/>
                  </a:lnTo>
                  <a:lnTo>
                    <a:pt x="703" y="2227"/>
                  </a:lnTo>
                  <a:lnTo>
                    <a:pt x="617" y="2320"/>
                  </a:lnTo>
                  <a:lnTo>
                    <a:pt x="527" y="2320"/>
                  </a:lnTo>
                  <a:lnTo>
                    <a:pt x="441" y="2364"/>
                  </a:lnTo>
                  <a:lnTo>
                    <a:pt x="351" y="2461"/>
                  </a:lnTo>
                  <a:lnTo>
                    <a:pt x="264" y="2554"/>
                  </a:lnTo>
                  <a:lnTo>
                    <a:pt x="206" y="2690"/>
                  </a:lnTo>
                  <a:lnTo>
                    <a:pt x="175" y="2832"/>
                  </a:lnTo>
                  <a:lnTo>
                    <a:pt x="175" y="2968"/>
                  </a:lnTo>
                  <a:lnTo>
                    <a:pt x="234" y="3109"/>
                  </a:lnTo>
                  <a:lnTo>
                    <a:pt x="175" y="3246"/>
                  </a:lnTo>
                  <a:lnTo>
                    <a:pt x="117" y="3343"/>
                  </a:lnTo>
                  <a:lnTo>
                    <a:pt x="27" y="3528"/>
                  </a:lnTo>
                  <a:lnTo>
                    <a:pt x="0" y="3713"/>
                  </a:lnTo>
                  <a:lnTo>
                    <a:pt x="86" y="3850"/>
                  </a:lnTo>
                  <a:lnTo>
                    <a:pt x="175" y="3899"/>
                  </a:lnTo>
                  <a:lnTo>
                    <a:pt x="206" y="4035"/>
                  </a:lnTo>
                  <a:lnTo>
                    <a:pt x="234" y="4132"/>
                  </a:lnTo>
                  <a:lnTo>
                    <a:pt x="234" y="4269"/>
                  </a:lnTo>
                  <a:lnTo>
                    <a:pt x="175" y="4455"/>
                  </a:lnTo>
                  <a:lnTo>
                    <a:pt x="175" y="4596"/>
                  </a:lnTo>
                  <a:lnTo>
                    <a:pt x="117" y="4733"/>
                  </a:lnTo>
                  <a:lnTo>
                    <a:pt x="86" y="4874"/>
                  </a:lnTo>
                  <a:lnTo>
                    <a:pt x="117" y="5015"/>
                  </a:lnTo>
                  <a:lnTo>
                    <a:pt x="234" y="5108"/>
                  </a:lnTo>
                  <a:lnTo>
                    <a:pt x="323" y="5245"/>
                  </a:lnTo>
                  <a:lnTo>
                    <a:pt x="351" y="5386"/>
                  </a:lnTo>
                  <a:lnTo>
                    <a:pt x="381" y="5522"/>
                  </a:lnTo>
                  <a:lnTo>
                    <a:pt x="469" y="5571"/>
                  </a:lnTo>
                  <a:lnTo>
                    <a:pt x="558" y="5664"/>
                  </a:lnTo>
                  <a:lnTo>
                    <a:pt x="712" y="5906"/>
                  </a:lnTo>
                  <a:lnTo>
                    <a:pt x="670" y="5787"/>
                  </a:lnTo>
                  <a:lnTo>
                    <a:pt x="631" y="5562"/>
                  </a:lnTo>
                  <a:lnTo>
                    <a:pt x="592" y="5417"/>
                  </a:lnTo>
                  <a:lnTo>
                    <a:pt x="564" y="5139"/>
                  </a:lnTo>
                  <a:lnTo>
                    <a:pt x="578" y="4980"/>
                  </a:lnTo>
                  <a:lnTo>
                    <a:pt x="564" y="4795"/>
                  </a:lnTo>
                  <a:lnTo>
                    <a:pt x="564" y="4397"/>
                  </a:lnTo>
                  <a:lnTo>
                    <a:pt x="578" y="4013"/>
                  </a:lnTo>
                  <a:lnTo>
                    <a:pt x="592" y="3630"/>
                  </a:lnTo>
                  <a:lnTo>
                    <a:pt x="592" y="3471"/>
                  </a:lnTo>
                  <a:lnTo>
                    <a:pt x="631" y="3246"/>
                  </a:lnTo>
                  <a:lnTo>
                    <a:pt x="698" y="3127"/>
                  </a:lnTo>
                  <a:lnTo>
                    <a:pt x="817" y="3087"/>
                  </a:lnTo>
                  <a:lnTo>
                    <a:pt x="988" y="3034"/>
                  </a:lnTo>
                  <a:lnTo>
                    <a:pt x="1068" y="2876"/>
                  </a:lnTo>
                  <a:lnTo>
                    <a:pt x="1160" y="2770"/>
                  </a:lnTo>
                  <a:lnTo>
                    <a:pt x="1281" y="2730"/>
                  </a:lnTo>
                  <a:lnTo>
                    <a:pt x="1345" y="2611"/>
                  </a:lnTo>
                  <a:lnTo>
                    <a:pt x="1504" y="2373"/>
                  </a:lnTo>
                  <a:lnTo>
                    <a:pt x="1504" y="2188"/>
                  </a:lnTo>
                  <a:lnTo>
                    <a:pt x="1557" y="1897"/>
                  </a:lnTo>
                  <a:lnTo>
                    <a:pt x="1585" y="1579"/>
                  </a:lnTo>
                  <a:lnTo>
                    <a:pt x="1610" y="1314"/>
                  </a:lnTo>
                  <a:lnTo>
                    <a:pt x="1610" y="1155"/>
                  </a:lnTo>
                  <a:lnTo>
                    <a:pt x="1610" y="996"/>
                  </a:lnTo>
                  <a:lnTo>
                    <a:pt x="1624" y="811"/>
                  </a:lnTo>
                  <a:lnTo>
                    <a:pt x="1624" y="546"/>
                  </a:lnTo>
                  <a:lnTo>
                    <a:pt x="1610" y="414"/>
                  </a:lnTo>
                  <a:lnTo>
                    <a:pt x="1493" y="229"/>
                  </a:lnTo>
                  <a:lnTo>
                    <a:pt x="1527" y="44"/>
                  </a:lnTo>
                  <a:lnTo>
                    <a:pt x="1440" y="0"/>
                  </a:lnTo>
                  <a:lnTo>
                    <a:pt x="1493" y="17"/>
                  </a:lnTo>
                  <a:lnTo>
                    <a:pt x="1596" y="255"/>
                  </a:lnTo>
                  <a:close/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4040" y="2895480"/>
              <a:ext cx="813240" cy="2186280"/>
            </a:xfrm>
            <a:custGeom>
              <a:avLst/>
              <a:gdLst/>
              <a:ahLst/>
              <a:rect l="0" t="0" r="r" b="b"/>
              <a:pathLst>
                <a:path w="2259" h="6073">
                  <a:moveTo>
                    <a:pt x="2198" y="0"/>
                  </a:moveTo>
                  <a:lnTo>
                    <a:pt x="2109" y="273"/>
                  </a:lnTo>
                  <a:lnTo>
                    <a:pt x="2079" y="414"/>
                  </a:lnTo>
                  <a:lnTo>
                    <a:pt x="1992" y="506"/>
                  </a:lnTo>
                  <a:lnTo>
                    <a:pt x="1962" y="643"/>
                  </a:lnTo>
                  <a:lnTo>
                    <a:pt x="1962" y="740"/>
                  </a:lnTo>
                  <a:lnTo>
                    <a:pt x="1992" y="876"/>
                  </a:lnTo>
                  <a:lnTo>
                    <a:pt x="1962" y="1017"/>
                  </a:lnTo>
                  <a:lnTo>
                    <a:pt x="1962" y="1154"/>
                  </a:lnTo>
                  <a:lnTo>
                    <a:pt x="1876" y="1247"/>
                  </a:lnTo>
                  <a:lnTo>
                    <a:pt x="1787" y="1295"/>
                  </a:lnTo>
                  <a:lnTo>
                    <a:pt x="1700" y="1339"/>
                  </a:lnTo>
                  <a:lnTo>
                    <a:pt x="1583" y="1432"/>
                  </a:lnTo>
                  <a:lnTo>
                    <a:pt x="1583" y="1529"/>
                  </a:lnTo>
                  <a:lnTo>
                    <a:pt x="1583" y="1665"/>
                  </a:lnTo>
                  <a:lnTo>
                    <a:pt x="1583" y="1806"/>
                  </a:lnTo>
                  <a:lnTo>
                    <a:pt x="1521" y="1850"/>
                  </a:lnTo>
                  <a:lnTo>
                    <a:pt x="1405" y="1943"/>
                  </a:lnTo>
                  <a:lnTo>
                    <a:pt x="1260" y="2176"/>
                  </a:lnTo>
                  <a:lnTo>
                    <a:pt x="1171" y="2176"/>
                  </a:lnTo>
                  <a:lnTo>
                    <a:pt x="996" y="2269"/>
                  </a:lnTo>
                  <a:lnTo>
                    <a:pt x="821" y="2502"/>
                  </a:lnTo>
                  <a:lnTo>
                    <a:pt x="821" y="2639"/>
                  </a:lnTo>
                  <a:lnTo>
                    <a:pt x="790" y="2965"/>
                  </a:lnTo>
                  <a:lnTo>
                    <a:pt x="673" y="3009"/>
                  </a:lnTo>
                  <a:lnTo>
                    <a:pt x="587" y="3009"/>
                  </a:lnTo>
                  <a:lnTo>
                    <a:pt x="497" y="3103"/>
                  </a:lnTo>
                  <a:lnTo>
                    <a:pt x="322" y="3200"/>
                  </a:lnTo>
                  <a:lnTo>
                    <a:pt x="147" y="3429"/>
                  </a:lnTo>
                  <a:lnTo>
                    <a:pt x="147" y="3570"/>
                  </a:lnTo>
                  <a:lnTo>
                    <a:pt x="175" y="3847"/>
                  </a:lnTo>
                  <a:lnTo>
                    <a:pt x="58" y="4125"/>
                  </a:lnTo>
                  <a:lnTo>
                    <a:pt x="0" y="4266"/>
                  </a:lnTo>
                  <a:lnTo>
                    <a:pt x="0" y="4544"/>
                  </a:lnTo>
                  <a:lnTo>
                    <a:pt x="30" y="4821"/>
                  </a:lnTo>
                  <a:lnTo>
                    <a:pt x="58" y="5099"/>
                  </a:lnTo>
                  <a:lnTo>
                    <a:pt x="58" y="5469"/>
                  </a:lnTo>
                  <a:lnTo>
                    <a:pt x="147" y="5751"/>
                  </a:lnTo>
                  <a:lnTo>
                    <a:pt x="147" y="6029"/>
                  </a:lnTo>
                  <a:lnTo>
                    <a:pt x="322" y="6073"/>
                  </a:lnTo>
                  <a:lnTo>
                    <a:pt x="411" y="6073"/>
                  </a:lnTo>
                  <a:lnTo>
                    <a:pt x="587" y="6073"/>
                  </a:lnTo>
                  <a:lnTo>
                    <a:pt x="632" y="5989"/>
                  </a:lnTo>
                  <a:lnTo>
                    <a:pt x="646" y="5791"/>
                  </a:lnTo>
                  <a:lnTo>
                    <a:pt x="646" y="5500"/>
                  </a:lnTo>
                  <a:lnTo>
                    <a:pt x="646" y="5196"/>
                  </a:lnTo>
                  <a:lnTo>
                    <a:pt x="646" y="4918"/>
                  </a:lnTo>
                  <a:lnTo>
                    <a:pt x="632" y="4627"/>
                  </a:lnTo>
                  <a:lnTo>
                    <a:pt x="657" y="4310"/>
                  </a:lnTo>
                  <a:lnTo>
                    <a:pt x="685" y="4072"/>
                  </a:lnTo>
                  <a:lnTo>
                    <a:pt x="723" y="3874"/>
                  </a:lnTo>
                  <a:lnTo>
                    <a:pt x="868" y="3715"/>
                  </a:lnTo>
                  <a:lnTo>
                    <a:pt x="974" y="3583"/>
                  </a:lnTo>
                  <a:lnTo>
                    <a:pt x="1054" y="3438"/>
                  </a:lnTo>
                  <a:lnTo>
                    <a:pt x="1188" y="3319"/>
                  </a:lnTo>
                  <a:lnTo>
                    <a:pt x="1266" y="3213"/>
                  </a:lnTo>
                  <a:lnTo>
                    <a:pt x="1371" y="3081"/>
                  </a:lnTo>
                  <a:lnTo>
                    <a:pt x="1505" y="3041"/>
                  </a:lnTo>
                  <a:lnTo>
                    <a:pt x="1597" y="2987"/>
                  </a:lnTo>
                  <a:lnTo>
                    <a:pt x="1677" y="2934"/>
                  </a:lnTo>
                  <a:lnTo>
                    <a:pt x="1809" y="2868"/>
                  </a:lnTo>
                  <a:lnTo>
                    <a:pt x="1837" y="2736"/>
                  </a:lnTo>
                  <a:lnTo>
                    <a:pt x="1862" y="2564"/>
                  </a:lnTo>
                  <a:lnTo>
                    <a:pt x="1862" y="2419"/>
                  </a:lnTo>
                  <a:lnTo>
                    <a:pt x="1903" y="2115"/>
                  </a:lnTo>
                  <a:lnTo>
                    <a:pt x="1956" y="1850"/>
                  </a:lnTo>
                  <a:lnTo>
                    <a:pt x="1967" y="1639"/>
                  </a:lnTo>
                  <a:lnTo>
                    <a:pt x="2009" y="1414"/>
                  </a:lnTo>
                  <a:lnTo>
                    <a:pt x="2062" y="1308"/>
                  </a:lnTo>
                  <a:lnTo>
                    <a:pt x="2126" y="1176"/>
                  </a:lnTo>
                  <a:lnTo>
                    <a:pt x="2126" y="1044"/>
                  </a:lnTo>
                  <a:lnTo>
                    <a:pt x="2168" y="912"/>
                  </a:lnTo>
                  <a:lnTo>
                    <a:pt x="2193" y="779"/>
                  </a:lnTo>
                  <a:lnTo>
                    <a:pt x="2259" y="568"/>
                  </a:lnTo>
                  <a:lnTo>
                    <a:pt x="2245" y="330"/>
                  </a:lnTo>
                  <a:lnTo>
                    <a:pt x="2198" y="0"/>
                  </a:lnTo>
                  <a:close/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28800" y="5165640"/>
              <a:ext cx="281520" cy="1692720"/>
            </a:xfrm>
            <a:custGeom>
              <a:avLst/>
              <a:gdLst/>
              <a:ahLst/>
              <a:rect l="0" t="0" r="r" b="b"/>
              <a:pathLst>
                <a:path w="782" h="4702">
                  <a:moveTo>
                    <a:pt x="0" y="118"/>
                  </a:moveTo>
                  <a:lnTo>
                    <a:pt x="91" y="0"/>
                  </a:lnTo>
                  <a:lnTo>
                    <a:pt x="211" y="170"/>
                  </a:lnTo>
                  <a:lnTo>
                    <a:pt x="225" y="341"/>
                  </a:lnTo>
                  <a:lnTo>
                    <a:pt x="200" y="590"/>
                  </a:lnTo>
                  <a:lnTo>
                    <a:pt x="200" y="919"/>
                  </a:lnTo>
                  <a:lnTo>
                    <a:pt x="266" y="1129"/>
                  </a:lnTo>
                  <a:lnTo>
                    <a:pt x="305" y="1235"/>
                  </a:lnTo>
                  <a:lnTo>
                    <a:pt x="358" y="1335"/>
                  </a:lnTo>
                  <a:lnTo>
                    <a:pt x="529" y="1484"/>
                  </a:lnTo>
                  <a:lnTo>
                    <a:pt x="702" y="1747"/>
                  </a:lnTo>
                  <a:lnTo>
                    <a:pt x="716" y="1918"/>
                  </a:lnTo>
                  <a:lnTo>
                    <a:pt x="729" y="2101"/>
                  </a:lnTo>
                  <a:lnTo>
                    <a:pt x="716" y="2377"/>
                  </a:lnTo>
                  <a:lnTo>
                    <a:pt x="741" y="2574"/>
                  </a:lnTo>
                  <a:lnTo>
                    <a:pt x="702" y="2863"/>
                  </a:lnTo>
                  <a:lnTo>
                    <a:pt x="716" y="3007"/>
                  </a:lnTo>
                  <a:lnTo>
                    <a:pt x="716" y="3152"/>
                  </a:lnTo>
                  <a:lnTo>
                    <a:pt x="729" y="3283"/>
                  </a:lnTo>
                  <a:lnTo>
                    <a:pt x="710" y="3458"/>
                  </a:lnTo>
                  <a:lnTo>
                    <a:pt x="738" y="3643"/>
                  </a:lnTo>
                  <a:lnTo>
                    <a:pt x="738" y="3779"/>
                  </a:lnTo>
                  <a:lnTo>
                    <a:pt x="768" y="3919"/>
                  </a:lnTo>
                  <a:lnTo>
                    <a:pt x="782" y="4072"/>
                  </a:lnTo>
                  <a:lnTo>
                    <a:pt x="768" y="4195"/>
                  </a:lnTo>
                  <a:lnTo>
                    <a:pt x="768" y="4335"/>
                  </a:lnTo>
                  <a:lnTo>
                    <a:pt x="738" y="4470"/>
                  </a:lnTo>
                  <a:lnTo>
                    <a:pt x="649" y="4702"/>
                  </a:lnTo>
                  <a:lnTo>
                    <a:pt x="119" y="4698"/>
                  </a:lnTo>
                  <a:lnTo>
                    <a:pt x="214" y="4562"/>
                  </a:lnTo>
                  <a:lnTo>
                    <a:pt x="272" y="4427"/>
                  </a:lnTo>
                  <a:lnTo>
                    <a:pt x="358" y="4335"/>
                  </a:lnTo>
                  <a:lnTo>
                    <a:pt x="416" y="4238"/>
                  </a:lnTo>
                  <a:lnTo>
                    <a:pt x="446" y="4103"/>
                  </a:lnTo>
                  <a:lnTo>
                    <a:pt x="416" y="3919"/>
                  </a:lnTo>
                  <a:lnTo>
                    <a:pt x="416" y="3735"/>
                  </a:lnTo>
                  <a:lnTo>
                    <a:pt x="358" y="3551"/>
                  </a:lnTo>
                  <a:lnTo>
                    <a:pt x="330" y="3410"/>
                  </a:lnTo>
                  <a:lnTo>
                    <a:pt x="272" y="3270"/>
                  </a:lnTo>
                  <a:lnTo>
                    <a:pt x="330" y="3134"/>
                  </a:lnTo>
                  <a:lnTo>
                    <a:pt x="358" y="2810"/>
                  </a:lnTo>
                  <a:lnTo>
                    <a:pt x="388" y="2675"/>
                  </a:lnTo>
                  <a:lnTo>
                    <a:pt x="388" y="2578"/>
                  </a:lnTo>
                  <a:lnTo>
                    <a:pt x="388" y="2395"/>
                  </a:lnTo>
                  <a:lnTo>
                    <a:pt x="358" y="2259"/>
                  </a:lnTo>
                  <a:lnTo>
                    <a:pt x="358" y="1935"/>
                  </a:lnTo>
                  <a:lnTo>
                    <a:pt x="299" y="1799"/>
                  </a:lnTo>
                  <a:lnTo>
                    <a:pt x="272" y="1703"/>
                  </a:lnTo>
                  <a:lnTo>
                    <a:pt x="241" y="1335"/>
                  </a:lnTo>
                  <a:lnTo>
                    <a:pt x="200" y="1327"/>
                  </a:lnTo>
                  <a:lnTo>
                    <a:pt x="107" y="1102"/>
                  </a:lnTo>
                  <a:lnTo>
                    <a:pt x="80" y="919"/>
                  </a:lnTo>
                  <a:lnTo>
                    <a:pt x="66" y="525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90720" y="0"/>
              <a:ext cx="433800" cy="609840"/>
            </a:xfrm>
            <a:custGeom>
              <a:avLst/>
              <a:gdLst/>
              <a:ahLst/>
              <a:rect l="0" t="0" r="r" b="b"/>
              <a:pathLst>
                <a:path w="1205" h="1694">
                  <a:moveTo>
                    <a:pt x="0" y="0"/>
                  </a:moveTo>
                  <a:lnTo>
                    <a:pt x="490" y="0"/>
                  </a:lnTo>
                  <a:lnTo>
                    <a:pt x="650" y="79"/>
                  </a:lnTo>
                  <a:lnTo>
                    <a:pt x="756" y="171"/>
                  </a:lnTo>
                  <a:lnTo>
                    <a:pt x="888" y="317"/>
                  </a:lnTo>
                  <a:lnTo>
                    <a:pt x="967" y="582"/>
                  </a:lnTo>
                  <a:lnTo>
                    <a:pt x="1035" y="727"/>
                  </a:lnTo>
                  <a:lnTo>
                    <a:pt x="1060" y="979"/>
                  </a:lnTo>
                  <a:lnTo>
                    <a:pt x="1127" y="1271"/>
                  </a:lnTo>
                  <a:lnTo>
                    <a:pt x="1205" y="1694"/>
                  </a:lnTo>
                  <a:lnTo>
                    <a:pt x="959" y="1632"/>
                  </a:lnTo>
                  <a:lnTo>
                    <a:pt x="899" y="1495"/>
                  </a:lnTo>
                  <a:lnTo>
                    <a:pt x="810" y="1354"/>
                  </a:lnTo>
                  <a:lnTo>
                    <a:pt x="751" y="1213"/>
                  </a:lnTo>
                  <a:lnTo>
                    <a:pt x="692" y="891"/>
                  </a:lnTo>
                  <a:lnTo>
                    <a:pt x="633" y="749"/>
                  </a:lnTo>
                  <a:lnTo>
                    <a:pt x="574" y="612"/>
                  </a:lnTo>
                  <a:lnTo>
                    <a:pt x="339" y="427"/>
                  </a:lnTo>
                  <a:lnTo>
                    <a:pt x="279" y="330"/>
                  </a:lnTo>
                  <a:lnTo>
                    <a:pt x="190" y="286"/>
                  </a:lnTo>
                  <a:lnTo>
                    <a:pt x="12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92280" y="3579840"/>
              <a:ext cx="363960" cy="533880"/>
            </a:xfrm>
            <a:custGeom>
              <a:avLst/>
              <a:gdLst/>
              <a:ahLst/>
              <a:rect l="0" t="0" r="r" b="b"/>
              <a:pathLst>
                <a:path w="1011" h="1483">
                  <a:moveTo>
                    <a:pt x="1011" y="0"/>
                  </a:moveTo>
                  <a:lnTo>
                    <a:pt x="848" y="273"/>
                  </a:lnTo>
                  <a:lnTo>
                    <a:pt x="730" y="366"/>
                  </a:lnTo>
                  <a:lnTo>
                    <a:pt x="641" y="415"/>
                  </a:lnTo>
                  <a:lnTo>
                    <a:pt x="525" y="600"/>
                  </a:lnTo>
                  <a:lnTo>
                    <a:pt x="525" y="737"/>
                  </a:lnTo>
                  <a:lnTo>
                    <a:pt x="525" y="878"/>
                  </a:lnTo>
                  <a:lnTo>
                    <a:pt x="525" y="1019"/>
                  </a:lnTo>
                  <a:lnTo>
                    <a:pt x="467" y="1157"/>
                  </a:lnTo>
                  <a:lnTo>
                    <a:pt x="381" y="1205"/>
                  </a:lnTo>
                  <a:lnTo>
                    <a:pt x="292" y="1249"/>
                  </a:lnTo>
                  <a:lnTo>
                    <a:pt x="202" y="1342"/>
                  </a:lnTo>
                  <a:lnTo>
                    <a:pt x="116" y="1391"/>
                  </a:lnTo>
                  <a:lnTo>
                    <a:pt x="27" y="1483"/>
                  </a:lnTo>
                  <a:lnTo>
                    <a:pt x="0" y="1342"/>
                  </a:lnTo>
                  <a:lnTo>
                    <a:pt x="86" y="1205"/>
                  </a:lnTo>
                  <a:lnTo>
                    <a:pt x="202" y="1113"/>
                  </a:lnTo>
                  <a:lnTo>
                    <a:pt x="264" y="971"/>
                  </a:lnTo>
                  <a:lnTo>
                    <a:pt x="322" y="785"/>
                  </a:lnTo>
                  <a:lnTo>
                    <a:pt x="350" y="600"/>
                  </a:lnTo>
                  <a:lnTo>
                    <a:pt x="350" y="459"/>
                  </a:lnTo>
                  <a:lnTo>
                    <a:pt x="583" y="321"/>
                  </a:lnTo>
                  <a:lnTo>
                    <a:pt x="672" y="321"/>
                  </a:lnTo>
                  <a:lnTo>
                    <a:pt x="789" y="132"/>
                  </a:lnTo>
                  <a:lnTo>
                    <a:pt x="878" y="39"/>
                  </a:lnTo>
                  <a:lnTo>
                    <a:pt x="1011" y="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2920" y="538200"/>
              <a:ext cx="244800" cy="367200"/>
            </a:xfrm>
            <a:custGeom>
              <a:avLst/>
              <a:gdLst/>
              <a:ahLst/>
              <a:rect l="0" t="0" r="r" b="b"/>
              <a:pathLst>
                <a:path w="680" h="1020">
                  <a:moveTo>
                    <a:pt x="88" y="44"/>
                  </a:moveTo>
                  <a:lnTo>
                    <a:pt x="88" y="229"/>
                  </a:lnTo>
                  <a:lnTo>
                    <a:pt x="88" y="371"/>
                  </a:lnTo>
                  <a:lnTo>
                    <a:pt x="27" y="415"/>
                  </a:lnTo>
                  <a:lnTo>
                    <a:pt x="0" y="556"/>
                  </a:lnTo>
                  <a:lnTo>
                    <a:pt x="27" y="697"/>
                  </a:lnTo>
                  <a:lnTo>
                    <a:pt x="88" y="697"/>
                  </a:lnTo>
                  <a:lnTo>
                    <a:pt x="174" y="741"/>
                  </a:lnTo>
                  <a:lnTo>
                    <a:pt x="263" y="835"/>
                  </a:lnTo>
                  <a:lnTo>
                    <a:pt x="350" y="976"/>
                  </a:lnTo>
                  <a:lnTo>
                    <a:pt x="438" y="1020"/>
                  </a:lnTo>
                  <a:lnTo>
                    <a:pt x="524" y="1020"/>
                  </a:lnTo>
                  <a:lnTo>
                    <a:pt x="680" y="1007"/>
                  </a:lnTo>
                  <a:lnTo>
                    <a:pt x="680" y="835"/>
                  </a:lnTo>
                  <a:lnTo>
                    <a:pt x="666" y="609"/>
                  </a:lnTo>
                  <a:lnTo>
                    <a:pt x="583" y="556"/>
                  </a:lnTo>
                  <a:lnTo>
                    <a:pt x="522" y="516"/>
                  </a:lnTo>
                  <a:lnTo>
                    <a:pt x="427" y="464"/>
                  </a:lnTo>
                  <a:lnTo>
                    <a:pt x="321" y="331"/>
                  </a:lnTo>
                  <a:lnTo>
                    <a:pt x="282" y="145"/>
                  </a:lnTo>
                  <a:lnTo>
                    <a:pt x="230" y="0"/>
                  </a:lnTo>
                  <a:lnTo>
                    <a:pt x="88" y="44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3054600" cy="6861600"/>
            <a:chOff x="0" y="0"/>
            <a:chExt cx="3054600" cy="6861600"/>
          </a:xfrm>
        </p:grpSpPr>
        <p:sp>
          <p:nvSpPr>
            <p:cNvPr id="51" name=""/>
            <p:cNvSpPr/>
            <p:nvPr/>
          </p:nvSpPr>
          <p:spPr>
            <a:xfrm>
              <a:off x="1419120" y="220680"/>
              <a:ext cx="1635480" cy="6640920"/>
            </a:xfrm>
            <a:custGeom>
              <a:avLst/>
              <a:gdLst/>
              <a:ahLst/>
              <a:rect l="0" t="0" r="r" b="b"/>
              <a:pathLst>
                <a:path w="4543" h="18447">
                  <a:moveTo>
                    <a:pt x="0" y="0"/>
                  </a:moveTo>
                  <a:lnTo>
                    <a:pt x="3215" y="0"/>
                  </a:lnTo>
                  <a:lnTo>
                    <a:pt x="3279" y="0"/>
                  </a:lnTo>
                  <a:lnTo>
                    <a:pt x="3485" y="101"/>
                  </a:lnTo>
                  <a:lnTo>
                    <a:pt x="3572" y="238"/>
                  </a:lnTo>
                  <a:lnTo>
                    <a:pt x="3661" y="286"/>
                  </a:lnTo>
                  <a:lnTo>
                    <a:pt x="3719" y="564"/>
                  </a:lnTo>
                  <a:lnTo>
                    <a:pt x="3778" y="750"/>
                  </a:lnTo>
                  <a:lnTo>
                    <a:pt x="3867" y="1120"/>
                  </a:lnTo>
                  <a:lnTo>
                    <a:pt x="3926" y="1495"/>
                  </a:lnTo>
                  <a:lnTo>
                    <a:pt x="4012" y="1866"/>
                  </a:lnTo>
                  <a:lnTo>
                    <a:pt x="4247" y="2051"/>
                  </a:lnTo>
                  <a:lnTo>
                    <a:pt x="4484" y="2144"/>
                  </a:lnTo>
                  <a:lnTo>
                    <a:pt x="4543" y="2285"/>
                  </a:lnTo>
                  <a:lnTo>
                    <a:pt x="4543" y="2563"/>
                  </a:lnTo>
                  <a:lnTo>
                    <a:pt x="4543" y="2841"/>
                  </a:lnTo>
                  <a:lnTo>
                    <a:pt x="4543" y="3119"/>
                  </a:lnTo>
                  <a:lnTo>
                    <a:pt x="4543" y="3304"/>
                  </a:lnTo>
                  <a:lnTo>
                    <a:pt x="4512" y="3675"/>
                  </a:lnTo>
                  <a:lnTo>
                    <a:pt x="4484" y="3957"/>
                  </a:lnTo>
                  <a:lnTo>
                    <a:pt x="4453" y="4328"/>
                  </a:lnTo>
                  <a:lnTo>
                    <a:pt x="4425" y="4464"/>
                  </a:lnTo>
                  <a:lnTo>
                    <a:pt x="4367" y="4561"/>
                  </a:lnTo>
                  <a:lnTo>
                    <a:pt x="4305" y="4655"/>
                  </a:lnTo>
                  <a:lnTo>
                    <a:pt x="4247" y="4792"/>
                  </a:lnTo>
                  <a:lnTo>
                    <a:pt x="4071" y="4884"/>
                  </a:lnTo>
                  <a:lnTo>
                    <a:pt x="3985" y="4977"/>
                  </a:lnTo>
                  <a:lnTo>
                    <a:pt x="3926" y="5118"/>
                  </a:lnTo>
                  <a:lnTo>
                    <a:pt x="3750" y="5162"/>
                  </a:lnTo>
                  <a:lnTo>
                    <a:pt x="3572" y="5255"/>
                  </a:lnTo>
                  <a:lnTo>
                    <a:pt x="3544" y="5537"/>
                  </a:lnTo>
                  <a:lnTo>
                    <a:pt x="3513" y="5908"/>
                  </a:lnTo>
                  <a:lnTo>
                    <a:pt x="3513" y="6045"/>
                  </a:lnTo>
                  <a:lnTo>
                    <a:pt x="3513" y="6234"/>
                  </a:lnTo>
                  <a:lnTo>
                    <a:pt x="3513" y="6698"/>
                  </a:lnTo>
                  <a:lnTo>
                    <a:pt x="3513" y="6834"/>
                  </a:lnTo>
                  <a:lnTo>
                    <a:pt x="3513" y="7117"/>
                  </a:lnTo>
                  <a:lnTo>
                    <a:pt x="3513" y="7302"/>
                  </a:lnTo>
                  <a:lnTo>
                    <a:pt x="3572" y="7765"/>
                  </a:lnTo>
                  <a:lnTo>
                    <a:pt x="3750" y="8136"/>
                  </a:lnTo>
                  <a:lnTo>
                    <a:pt x="3809" y="8277"/>
                  </a:lnTo>
                  <a:lnTo>
                    <a:pt x="3809" y="8555"/>
                  </a:lnTo>
                  <a:lnTo>
                    <a:pt x="3778" y="8740"/>
                  </a:lnTo>
                  <a:lnTo>
                    <a:pt x="3719" y="8926"/>
                  </a:lnTo>
                  <a:lnTo>
                    <a:pt x="3661" y="9204"/>
                  </a:lnTo>
                  <a:lnTo>
                    <a:pt x="3602" y="9345"/>
                  </a:lnTo>
                  <a:lnTo>
                    <a:pt x="3544" y="9482"/>
                  </a:lnTo>
                  <a:lnTo>
                    <a:pt x="3513" y="9901"/>
                  </a:lnTo>
                  <a:lnTo>
                    <a:pt x="3454" y="10179"/>
                  </a:lnTo>
                  <a:lnTo>
                    <a:pt x="3427" y="10461"/>
                  </a:lnTo>
                  <a:lnTo>
                    <a:pt x="3396" y="10739"/>
                  </a:lnTo>
                  <a:lnTo>
                    <a:pt x="3368" y="10876"/>
                  </a:lnTo>
                  <a:lnTo>
                    <a:pt x="3161" y="11017"/>
                  </a:lnTo>
                  <a:lnTo>
                    <a:pt x="2927" y="11109"/>
                  </a:lnTo>
                  <a:lnTo>
                    <a:pt x="2810" y="11251"/>
                  </a:lnTo>
                  <a:lnTo>
                    <a:pt x="2517" y="11621"/>
                  </a:lnTo>
                  <a:lnTo>
                    <a:pt x="2280" y="11899"/>
                  </a:lnTo>
                  <a:lnTo>
                    <a:pt x="2251" y="12040"/>
                  </a:lnTo>
                  <a:lnTo>
                    <a:pt x="2192" y="12226"/>
                  </a:lnTo>
                  <a:lnTo>
                    <a:pt x="2192" y="12504"/>
                  </a:lnTo>
                  <a:lnTo>
                    <a:pt x="2192" y="12874"/>
                  </a:lnTo>
                  <a:lnTo>
                    <a:pt x="2192" y="13152"/>
                  </a:lnTo>
                  <a:lnTo>
                    <a:pt x="2192" y="13523"/>
                  </a:lnTo>
                  <a:lnTo>
                    <a:pt x="2192" y="13805"/>
                  </a:lnTo>
                  <a:lnTo>
                    <a:pt x="2192" y="13943"/>
                  </a:lnTo>
                  <a:lnTo>
                    <a:pt x="2280" y="14084"/>
                  </a:lnTo>
                  <a:lnTo>
                    <a:pt x="2397" y="14177"/>
                  </a:lnTo>
                  <a:lnTo>
                    <a:pt x="2693" y="14269"/>
                  </a:lnTo>
                  <a:lnTo>
                    <a:pt x="2779" y="14406"/>
                  </a:lnTo>
                  <a:lnTo>
                    <a:pt x="2810" y="14547"/>
                  </a:lnTo>
                  <a:lnTo>
                    <a:pt x="2810" y="14733"/>
                  </a:lnTo>
                  <a:lnTo>
                    <a:pt x="2810" y="15103"/>
                  </a:lnTo>
                  <a:lnTo>
                    <a:pt x="2810" y="15244"/>
                  </a:lnTo>
                  <a:lnTo>
                    <a:pt x="2927" y="15708"/>
                  </a:lnTo>
                  <a:lnTo>
                    <a:pt x="3103" y="15800"/>
                  </a:lnTo>
                  <a:lnTo>
                    <a:pt x="3279" y="16078"/>
                  </a:lnTo>
                  <a:lnTo>
                    <a:pt x="3279" y="16219"/>
                  </a:lnTo>
                  <a:lnTo>
                    <a:pt x="3309" y="16405"/>
                  </a:lnTo>
                  <a:lnTo>
                    <a:pt x="3309" y="16590"/>
                  </a:lnTo>
                  <a:lnTo>
                    <a:pt x="3309" y="16731"/>
                  </a:lnTo>
                  <a:lnTo>
                    <a:pt x="3309" y="17102"/>
                  </a:lnTo>
                  <a:lnTo>
                    <a:pt x="3309" y="17614"/>
                  </a:lnTo>
                  <a:lnTo>
                    <a:pt x="3309" y="17750"/>
                  </a:lnTo>
                  <a:lnTo>
                    <a:pt x="3309" y="17891"/>
                  </a:lnTo>
                  <a:lnTo>
                    <a:pt x="3337" y="18033"/>
                  </a:lnTo>
                  <a:lnTo>
                    <a:pt x="3337" y="18169"/>
                  </a:lnTo>
                  <a:lnTo>
                    <a:pt x="3407" y="18447"/>
                  </a:lnTo>
                  <a:lnTo>
                    <a:pt x="58" y="184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3939"/>
                </a:gs>
                <a:gs pos="100000">
                  <a:srgbClr val="336699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2929320" cy="6861240"/>
              <a:chOff x="0" y="0"/>
              <a:chExt cx="2929320" cy="68612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2897640" cy="6856920"/>
              </a:xfrm>
              <a:custGeom>
                <a:avLst/>
                <a:gdLst/>
                <a:ahLst/>
                <a:rect l="0" t="0" r="r" b="b"/>
                <a:pathLst>
                  <a:path w="8049" h="19047">
                    <a:moveTo>
                      <a:pt x="0" y="0"/>
                    </a:moveTo>
                    <a:lnTo>
                      <a:pt x="6739" y="0"/>
                    </a:lnTo>
                    <a:lnTo>
                      <a:pt x="6802" y="0"/>
                    </a:lnTo>
                    <a:lnTo>
                      <a:pt x="7006" y="101"/>
                    </a:lnTo>
                    <a:lnTo>
                      <a:pt x="7091" y="238"/>
                    </a:lnTo>
                    <a:lnTo>
                      <a:pt x="7179" y="286"/>
                    </a:lnTo>
                    <a:lnTo>
                      <a:pt x="7237" y="564"/>
                    </a:lnTo>
                    <a:lnTo>
                      <a:pt x="7295" y="749"/>
                    </a:lnTo>
                    <a:lnTo>
                      <a:pt x="7383" y="1120"/>
                    </a:lnTo>
                    <a:lnTo>
                      <a:pt x="7441" y="1494"/>
                    </a:lnTo>
                    <a:lnTo>
                      <a:pt x="7526" y="1865"/>
                    </a:lnTo>
                    <a:lnTo>
                      <a:pt x="7757" y="2050"/>
                    </a:lnTo>
                    <a:lnTo>
                      <a:pt x="7991" y="2143"/>
                    </a:lnTo>
                    <a:lnTo>
                      <a:pt x="8049" y="2284"/>
                    </a:lnTo>
                    <a:lnTo>
                      <a:pt x="8049" y="2562"/>
                    </a:lnTo>
                    <a:lnTo>
                      <a:pt x="8049" y="2839"/>
                    </a:lnTo>
                    <a:lnTo>
                      <a:pt x="8049" y="3117"/>
                    </a:lnTo>
                    <a:lnTo>
                      <a:pt x="8049" y="3302"/>
                    </a:lnTo>
                    <a:lnTo>
                      <a:pt x="8019" y="3673"/>
                    </a:lnTo>
                    <a:lnTo>
                      <a:pt x="7991" y="3955"/>
                    </a:lnTo>
                    <a:lnTo>
                      <a:pt x="7961" y="4325"/>
                    </a:lnTo>
                    <a:lnTo>
                      <a:pt x="7934" y="4462"/>
                    </a:lnTo>
                    <a:lnTo>
                      <a:pt x="7876" y="4559"/>
                    </a:lnTo>
                    <a:lnTo>
                      <a:pt x="7815" y="4652"/>
                    </a:lnTo>
                    <a:lnTo>
                      <a:pt x="7757" y="4789"/>
                    </a:lnTo>
                    <a:lnTo>
                      <a:pt x="7584" y="4882"/>
                    </a:lnTo>
                    <a:lnTo>
                      <a:pt x="7499" y="4975"/>
                    </a:lnTo>
                    <a:lnTo>
                      <a:pt x="7441" y="5116"/>
                    </a:lnTo>
                    <a:lnTo>
                      <a:pt x="7267" y="5160"/>
                    </a:lnTo>
                    <a:lnTo>
                      <a:pt x="7091" y="5252"/>
                    </a:lnTo>
                    <a:lnTo>
                      <a:pt x="7064" y="5535"/>
                    </a:lnTo>
                    <a:lnTo>
                      <a:pt x="7033" y="5905"/>
                    </a:lnTo>
                    <a:lnTo>
                      <a:pt x="7033" y="6042"/>
                    </a:lnTo>
                    <a:lnTo>
                      <a:pt x="7033" y="6231"/>
                    </a:lnTo>
                    <a:lnTo>
                      <a:pt x="7033" y="6694"/>
                    </a:lnTo>
                    <a:lnTo>
                      <a:pt x="7033" y="6831"/>
                    </a:lnTo>
                    <a:lnTo>
                      <a:pt x="7033" y="7113"/>
                    </a:lnTo>
                    <a:lnTo>
                      <a:pt x="7033" y="7299"/>
                    </a:lnTo>
                    <a:lnTo>
                      <a:pt x="7091" y="7762"/>
                    </a:lnTo>
                    <a:lnTo>
                      <a:pt x="7267" y="8132"/>
                    </a:lnTo>
                    <a:lnTo>
                      <a:pt x="7325" y="8273"/>
                    </a:lnTo>
                    <a:lnTo>
                      <a:pt x="7325" y="8551"/>
                    </a:lnTo>
                    <a:lnTo>
                      <a:pt x="7295" y="8736"/>
                    </a:lnTo>
                    <a:lnTo>
                      <a:pt x="7237" y="8921"/>
                    </a:lnTo>
                    <a:lnTo>
                      <a:pt x="7179" y="9199"/>
                    </a:lnTo>
                    <a:lnTo>
                      <a:pt x="7121" y="9340"/>
                    </a:lnTo>
                    <a:lnTo>
                      <a:pt x="7064" y="9477"/>
                    </a:lnTo>
                    <a:lnTo>
                      <a:pt x="7033" y="9896"/>
                    </a:lnTo>
                    <a:lnTo>
                      <a:pt x="6975" y="10174"/>
                    </a:lnTo>
                    <a:lnTo>
                      <a:pt x="6948" y="10456"/>
                    </a:lnTo>
                    <a:lnTo>
                      <a:pt x="6918" y="10734"/>
                    </a:lnTo>
                    <a:lnTo>
                      <a:pt x="6890" y="10870"/>
                    </a:lnTo>
                    <a:lnTo>
                      <a:pt x="6686" y="11012"/>
                    </a:lnTo>
                    <a:lnTo>
                      <a:pt x="6455" y="11104"/>
                    </a:lnTo>
                    <a:lnTo>
                      <a:pt x="6339" y="11245"/>
                    </a:lnTo>
                    <a:lnTo>
                      <a:pt x="6050" y="11616"/>
                    </a:lnTo>
                    <a:lnTo>
                      <a:pt x="5815" y="11894"/>
                    </a:lnTo>
                    <a:lnTo>
                      <a:pt x="5788" y="12035"/>
                    </a:lnTo>
                    <a:lnTo>
                      <a:pt x="5730" y="12220"/>
                    </a:lnTo>
                    <a:lnTo>
                      <a:pt x="5730" y="12498"/>
                    </a:lnTo>
                    <a:lnTo>
                      <a:pt x="5730" y="12868"/>
                    </a:lnTo>
                    <a:lnTo>
                      <a:pt x="5730" y="13146"/>
                    </a:lnTo>
                    <a:lnTo>
                      <a:pt x="5730" y="13516"/>
                    </a:lnTo>
                    <a:lnTo>
                      <a:pt x="5730" y="13799"/>
                    </a:lnTo>
                    <a:lnTo>
                      <a:pt x="5730" y="13935"/>
                    </a:lnTo>
                    <a:lnTo>
                      <a:pt x="5815" y="14076"/>
                    </a:lnTo>
                    <a:lnTo>
                      <a:pt x="5931" y="14169"/>
                    </a:lnTo>
                    <a:lnTo>
                      <a:pt x="6224" y="14262"/>
                    </a:lnTo>
                    <a:lnTo>
                      <a:pt x="6309" y="14399"/>
                    </a:lnTo>
                    <a:lnTo>
                      <a:pt x="6339" y="14540"/>
                    </a:lnTo>
                    <a:lnTo>
                      <a:pt x="6339" y="14726"/>
                    </a:lnTo>
                    <a:lnTo>
                      <a:pt x="6339" y="15096"/>
                    </a:lnTo>
                    <a:lnTo>
                      <a:pt x="6339" y="15237"/>
                    </a:lnTo>
                    <a:lnTo>
                      <a:pt x="6455" y="15700"/>
                    </a:lnTo>
                    <a:lnTo>
                      <a:pt x="6629" y="15793"/>
                    </a:lnTo>
                    <a:lnTo>
                      <a:pt x="6802" y="16071"/>
                    </a:lnTo>
                    <a:lnTo>
                      <a:pt x="6802" y="16212"/>
                    </a:lnTo>
                    <a:lnTo>
                      <a:pt x="6832" y="16397"/>
                    </a:lnTo>
                    <a:lnTo>
                      <a:pt x="6832" y="16582"/>
                    </a:lnTo>
                    <a:lnTo>
                      <a:pt x="6832" y="16723"/>
                    </a:lnTo>
                    <a:lnTo>
                      <a:pt x="6832" y="17094"/>
                    </a:lnTo>
                    <a:lnTo>
                      <a:pt x="6832" y="17605"/>
                    </a:lnTo>
                    <a:lnTo>
                      <a:pt x="6832" y="17742"/>
                    </a:lnTo>
                    <a:lnTo>
                      <a:pt x="6832" y="17883"/>
                    </a:lnTo>
                    <a:lnTo>
                      <a:pt x="6860" y="18024"/>
                    </a:lnTo>
                    <a:lnTo>
                      <a:pt x="6860" y="18161"/>
                    </a:lnTo>
                    <a:lnTo>
                      <a:pt x="6890" y="18302"/>
                    </a:lnTo>
                    <a:lnTo>
                      <a:pt x="6890" y="18439"/>
                    </a:lnTo>
                    <a:lnTo>
                      <a:pt x="6832" y="18813"/>
                    </a:lnTo>
                    <a:lnTo>
                      <a:pt x="6802" y="18950"/>
                    </a:lnTo>
                    <a:lnTo>
                      <a:pt x="6744" y="19047"/>
                    </a:lnTo>
                    <a:lnTo>
                      <a:pt x="0" y="19043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44680" y="758880"/>
                <a:ext cx="584640" cy="2122920"/>
              </a:xfrm>
              <a:custGeom>
                <a:avLst/>
                <a:gdLst/>
                <a:ahLst/>
                <a:rect l="0" t="0" r="r" b="b"/>
                <a:pathLst>
                  <a:path w="1624" h="5897">
                    <a:moveTo>
                      <a:pt x="1596" y="255"/>
                    </a:moveTo>
                    <a:lnTo>
                      <a:pt x="1351" y="321"/>
                    </a:lnTo>
                    <a:lnTo>
                      <a:pt x="1351" y="462"/>
                    </a:lnTo>
                    <a:lnTo>
                      <a:pt x="1320" y="598"/>
                    </a:lnTo>
                    <a:lnTo>
                      <a:pt x="1320" y="739"/>
                    </a:lnTo>
                    <a:lnTo>
                      <a:pt x="1320" y="880"/>
                    </a:lnTo>
                    <a:lnTo>
                      <a:pt x="1292" y="1017"/>
                    </a:lnTo>
                    <a:lnTo>
                      <a:pt x="1262" y="1158"/>
                    </a:lnTo>
                    <a:lnTo>
                      <a:pt x="1262" y="1294"/>
                    </a:lnTo>
                    <a:lnTo>
                      <a:pt x="1262" y="1435"/>
                    </a:lnTo>
                    <a:lnTo>
                      <a:pt x="1262" y="1572"/>
                    </a:lnTo>
                    <a:lnTo>
                      <a:pt x="1234" y="1669"/>
                    </a:lnTo>
                    <a:lnTo>
                      <a:pt x="1202" y="1806"/>
                    </a:lnTo>
                    <a:lnTo>
                      <a:pt x="1174" y="1947"/>
                    </a:lnTo>
                    <a:lnTo>
                      <a:pt x="1057" y="2039"/>
                    </a:lnTo>
                    <a:lnTo>
                      <a:pt x="968" y="2039"/>
                    </a:lnTo>
                    <a:lnTo>
                      <a:pt x="882" y="2039"/>
                    </a:lnTo>
                    <a:lnTo>
                      <a:pt x="792" y="2039"/>
                    </a:lnTo>
                    <a:lnTo>
                      <a:pt x="703" y="2224"/>
                    </a:lnTo>
                    <a:lnTo>
                      <a:pt x="617" y="2317"/>
                    </a:lnTo>
                    <a:lnTo>
                      <a:pt x="527" y="2317"/>
                    </a:lnTo>
                    <a:lnTo>
                      <a:pt x="441" y="2361"/>
                    </a:lnTo>
                    <a:lnTo>
                      <a:pt x="351" y="2457"/>
                    </a:lnTo>
                    <a:lnTo>
                      <a:pt x="264" y="2550"/>
                    </a:lnTo>
                    <a:lnTo>
                      <a:pt x="206" y="2686"/>
                    </a:lnTo>
                    <a:lnTo>
                      <a:pt x="175" y="2827"/>
                    </a:lnTo>
                    <a:lnTo>
                      <a:pt x="175" y="2964"/>
                    </a:lnTo>
                    <a:lnTo>
                      <a:pt x="234" y="3105"/>
                    </a:lnTo>
                    <a:lnTo>
                      <a:pt x="175" y="3241"/>
                    </a:lnTo>
                    <a:lnTo>
                      <a:pt x="117" y="3338"/>
                    </a:lnTo>
                    <a:lnTo>
                      <a:pt x="27" y="3523"/>
                    </a:lnTo>
                    <a:lnTo>
                      <a:pt x="0" y="3708"/>
                    </a:lnTo>
                    <a:lnTo>
                      <a:pt x="86" y="3844"/>
                    </a:lnTo>
                    <a:lnTo>
                      <a:pt x="175" y="3893"/>
                    </a:lnTo>
                    <a:lnTo>
                      <a:pt x="206" y="4029"/>
                    </a:lnTo>
                    <a:lnTo>
                      <a:pt x="234" y="4126"/>
                    </a:lnTo>
                    <a:lnTo>
                      <a:pt x="234" y="4263"/>
                    </a:lnTo>
                    <a:lnTo>
                      <a:pt x="175" y="4449"/>
                    </a:lnTo>
                    <a:lnTo>
                      <a:pt x="175" y="4590"/>
                    </a:lnTo>
                    <a:lnTo>
                      <a:pt x="117" y="4726"/>
                    </a:lnTo>
                    <a:lnTo>
                      <a:pt x="86" y="4867"/>
                    </a:lnTo>
                    <a:lnTo>
                      <a:pt x="117" y="5008"/>
                    </a:lnTo>
                    <a:lnTo>
                      <a:pt x="234" y="5100"/>
                    </a:lnTo>
                    <a:lnTo>
                      <a:pt x="323" y="5237"/>
                    </a:lnTo>
                    <a:lnTo>
                      <a:pt x="351" y="5378"/>
                    </a:lnTo>
                    <a:lnTo>
                      <a:pt x="381" y="5514"/>
                    </a:lnTo>
                    <a:lnTo>
                      <a:pt x="469" y="5563"/>
                    </a:lnTo>
                    <a:lnTo>
                      <a:pt x="558" y="5655"/>
                    </a:lnTo>
                    <a:lnTo>
                      <a:pt x="712" y="5897"/>
                    </a:lnTo>
                    <a:lnTo>
                      <a:pt x="670" y="5778"/>
                    </a:lnTo>
                    <a:lnTo>
                      <a:pt x="631" y="5554"/>
                    </a:lnTo>
                    <a:lnTo>
                      <a:pt x="592" y="5409"/>
                    </a:lnTo>
                    <a:lnTo>
                      <a:pt x="564" y="5131"/>
                    </a:lnTo>
                    <a:lnTo>
                      <a:pt x="578" y="4973"/>
                    </a:lnTo>
                    <a:lnTo>
                      <a:pt x="564" y="4788"/>
                    </a:lnTo>
                    <a:lnTo>
                      <a:pt x="564" y="4390"/>
                    </a:lnTo>
                    <a:lnTo>
                      <a:pt x="578" y="4007"/>
                    </a:lnTo>
                    <a:lnTo>
                      <a:pt x="592" y="3624"/>
                    </a:lnTo>
                    <a:lnTo>
                      <a:pt x="592" y="3466"/>
                    </a:lnTo>
                    <a:lnTo>
                      <a:pt x="631" y="3241"/>
                    </a:lnTo>
                    <a:lnTo>
                      <a:pt x="698" y="3122"/>
                    </a:lnTo>
                    <a:lnTo>
                      <a:pt x="817" y="3083"/>
                    </a:lnTo>
                    <a:lnTo>
                      <a:pt x="988" y="3030"/>
                    </a:lnTo>
                    <a:lnTo>
                      <a:pt x="1068" y="2871"/>
                    </a:lnTo>
                    <a:lnTo>
                      <a:pt x="1160" y="2766"/>
                    </a:lnTo>
                    <a:lnTo>
                      <a:pt x="1281" y="2726"/>
                    </a:lnTo>
                    <a:lnTo>
                      <a:pt x="1345" y="2607"/>
                    </a:lnTo>
                    <a:lnTo>
                      <a:pt x="1504" y="2369"/>
                    </a:lnTo>
                    <a:lnTo>
                      <a:pt x="1504" y="2184"/>
                    </a:lnTo>
                    <a:lnTo>
                      <a:pt x="1557" y="1894"/>
                    </a:lnTo>
                    <a:lnTo>
                      <a:pt x="1585" y="1577"/>
                    </a:lnTo>
                    <a:lnTo>
                      <a:pt x="1610" y="1312"/>
                    </a:lnTo>
                    <a:lnTo>
                      <a:pt x="1610" y="1153"/>
                    </a:lnTo>
                    <a:lnTo>
                      <a:pt x="1610" y="995"/>
                    </a:lnTo>
                    <a:lnTo>
                      <a:pt x="1624" y="810"/>
                    </a:lnTo>
                    <a:lnTo>
                      <a:pt x="1624" y="545"/>
                    </a:lnTo>
                    <a:lnTo>
                      <a:pt x="1610" y="413"/>
                    </a:lnTo>
                    <a:lnTo>
                      <a:pt x="1493" y="228"/>
                    </a:lnTo>
                    <a:lnTo>
                      <a:pt x="1527" y="44"/>
                    </a:lnTo>
                    <a:lnTo>
                      <a:pt x="1440" y="0"/>
                    </a:lnTo>
                    <a:lnTo>
                      <a:pt x="1493" y="17"/>
                    </a:lnTo>
                    <a:lnTo>
                      <a:pt x="1596" y="255"/>
                    </a:lnTo>
                    <a:close/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49320" y="2890800"/>
                <a:ext cx="813240" cy="2180160"/>
              </a:xfrm>
              <a:custGeom>
                <a:avLst/>
                <a:gdLst/>
                <a:ahLst/>
                <a:rect l="0" t="0" r="r" b="b"/>
                <a:pathLst>
                  <a:path w="2259" h="6056">
                    <a:moveTo>
                      <a:pt x="2198" y="0"/>
                    </a:moveTo>
                    <a:lnTo>
                      <a:pt x="2109" y="272"/>
                    </a:lnTo>
                    <a:lnTo>
                      <a:pt x="2079" y="413"/>
                    </a:lnTo>
                    <a:lnTo>
                      <a:pt x="1992" y="505"/>
                    </a:lnTo>
                    <a:lnTo>
                      <a:pt x="1962" y="641"/>
                    </a:lnTo>
                    <a:lnTo>
                      <a:pt x="1962" y="738"/>
                    </a:lnTo>
                    <a:lnTo>
                      <a:pt x="1992" y="874"/>
                    </a:lnTo>
                    <a:lnTo>
                      <a:pt x="1962" y="1014"/>
                    </a:lnTo>
                    <a:lnTo>
                      <a:pt x="1962" y="1151"/>
                    </a:lnTo>
                    <a:lnTo>
                      <a:pt x="1876" y="1243"/>
                    </a:lnTo>
                    <a:lnTo>
                      <a:pt x="1787" y="1291"/>
                    </a:lnTo>
                    <a:lnTo>
                      <a:pt x="1700" y="1335"/>
                    </a:lnTo>
                    <a:lnTo>
                      <a:pt x="1583" y="1427"/>
                    </a:lnTo>
                    <a:lnTo>
                      <a:pt x="1583" y="1525"/>
                    </a:lnTo>
                    <a:lnTo>
                      <a:pt x="1583" y="1661"/>
                    </a:lnTo>
                    <a:lnTo>
                      <a:pt x="1583" y="1802"/>
                    </a:lnTo>
                    <a:lnTo>
                      <a:pt x="1521" y="1846"/>
                    </a:lnTo>
                    <a:lnTo>
                      <a:pt x="1405" y="1938"/>
                    </a:lnTo>
                    <a:lnTo>
                      <a:pt x="1260" y="2171"/>
                    </a:lnTo>
                    <a:lnTo>
                      <a:pt x="1171" y="2171"/>
                    </a:lnTo>
                    <a:lnTo>
                      <a:pt x="996" y="2263"/>
                    </a:lnTo>
                    <a:lnTo>
                      <a:pt x="821" y="2496"/>
                    </a:lnTo>
                    <a:lnTo>
                      <a:pt x="821" y="2632"/>
                    </a:lnTo>
                    <a:lnTo>
                      <a:pt x="790" y="2957"/>
                    </a:lnTo>
                    <a:lnTo>
                      <a:pt x="673" y="3001"/>
                    </a:lnTo>
                    <a:lnTo>
                      <a:pt x="587" y="3001"/>
                    </a:lnTo>
                    <a:lnTo>
                      <a:pt x="497" y="3094"/>
                    </a:lnTo>
                    <a:lnTo>
                      <a:pt x="322" y="3190"/>
                    </a:lnTo>
                    <a:lnTo>
                      <a:pt x="147" y="3419"/>
                    </a:lnTo>
                    <a:lnTo>
                      <a:pt x="147" y="3559"/>
                    </a:lnTo>
                    <a:lnTo>
                      <a:pt x="175" y="3836"/>
                    </a:lnTo>
                    <a:lnTo>
                      <a:pt x="58" y="4113"/>
                    </a:lnTo>
                    <a:lnTo>
                      <a:pt x="0" y="4254"/>
                    </a:lnTo>
                    <a:lnTo>
                      <a:pt x="0" y="4530"/>
                    </a:lnTo>
                    <a:lnTo>
                      <a:pt x="30" y="4808"/>
                    </a:lnTo>
                    <a:lnTo>
                      <a:pt x="58" y="5085"/>
                    </a:lnTo>
                    <a:lnTo>
                      <a:pt x="58" y="5454"/>
                    </a:lnTo>
                    <a:lnTo>
                      <a:pt x="147" y="5735"/>
                    </a:lnTo>
                    <a:lnTo>
                      <a:pt x="147" y="6012"/>
                    </a:lnTo>
                    <a:lnTo>
                      <a:pt x="322" y="6056"/>
                    </a:lnTo>
                    <a:lnTo>
                      <a:pt x="411" y="6056"/>
                    </a:lnTo>
                    <a:lnTo>
                      <a:pt x="587" y="6056"/>
                    </a:lnTo>
                    <a:lnTo>
                      <a:pt x="632" y="5973"/>
                    </a:lnTo>
                    <a:lnTo>
                      <a:pt x="646" y="5775"/>
                    </a:lnTo>
                    <a:lnTo>
                      <a:pt x="646" y="5485"/>
                    </a:lnTo>
                    <a:lnTo>
                      <a:pt x="646" y="5182"/>
                    </a:lnTo>
                    <a:lnTo>
                      <a:pt x="646" y="4905"/>
                    </a:lnTo>
                    <a:lnTo>
                      <a:pt x="632" y="4615"/>
                    </a:lnTo>
                    <a:lnTo>
                      <a:pt x="657" y="4298"/>
                    </a:lnTo>
                    <a:lnTo>
                      <a:pt x="685" y="4060"/>
                    </a:lnTo>
                    <a:lnTo>
                      <a:pt x="723" y="3863"/>
                    </a:lnTo>
                    <a:lnTo>
                      <a:pt x="868" y="3704"/>
                    </a:lnTo>
                    <a:lnTo>
                      <a:pt x="974" y="3573"/>
                    </a:lnTo>
                    <a:lnTo>
                      <a:pt x="1054" y="3428"/>
                    </a:lnTo>
                    <a:lnTo>
                      <a:pt x="1188" y="3309"/>
                    </a:lnTo>
                    <a:lnTo>
                      <a:pt x="1266" y="3204"/>
                    </a:lnTo>
                    <a:lnTo>
                      <a:pt x="1371" y="3072"/>
                    </a:lnTo>
                    <a:lnTo>
                      <a:pt x="1505" y="3032"/>
                    </a:lnTo>
                    <a:lnTo>
                      <a:pt x="1597" y="2979"/>
                    </a:lnTo>
                    <a:lnTo>
                      <a:pt x="1677" y="2927"/>
                    </a:lnTo>
                    <a:lnTo>
                      <a:pt x="1809" y="2861"/>
                    </a:lnTo>
                    <a:lnTo>
                      <a:pt x="1837" y="2729"/>
                    </a:lnTo>
                    <a:lnTo>
                      <a:pt x="1862" y="2558"/>
                    </a:lnTo>
                    <a:lnTo>
                      <a:pt x="1862" y="2413"/>
                    </a:lnTo>
                    <a:lnTo>
                      <a:pt x="1903" y="2109"/>
                    </a:lnTo>
                    <a:lnTo>
                      <a:pt x="1956" y="1846"/>
                    </a:lnTo>
                    <a:lnTo>
                      <a:pt x="1967" y="1635"/>
                    </a:lnTo>
                    <a:lnTo>
                      <a:pt x="2009" y="1410"/>
                    </a:lnTo>
                    <a:lnTo>
                      <a:pt x="2062" y="1304"/>
                    </a:lnTo>
                    <a:lnTo>
                      <a:pt x="2126" y="1173"/>
                    </a:lnTo>
                    <a:lnTo>
                      <a:pt x="2126" y="1041"/>
                    </a:lnTo>
                    <a:lnTo>
                      <a:pt x="2168" y="909"/>
                    </a:lnTo>
                    <a:lnTo>
                      <a:pt x="2193" y="777"/>
                    </a:lnTo>
                    <a:lnTo>
                      <a:pt x="2259" y="566"/>
                    </a:lnTo>
                    <a:lnTo>
                      <a:pt x="2245" y="329"/>
                    </a:lnTo>
                    <a:lnTo>
                      <a:pt x="2198" y="0"/>
                    </a:lnTo>
                    <a:close/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24080" y="5154480"/>
                <a:ext cx="281520" cy="1706760"/>
              </a:xfrm>
              <a:custGeom>
                <a:avLst/>
                <a:gdLst/>
                <a:ahLst/>
                <a:rect l="0" t="0" r="r" b="b"/>
                <a:pathLst>
                  <a:path w="782" h="4741">
                    <a:moveTo>
                      <a:pt x="0" y="119"/>
                    </a:moveTo>
                    <a:lnTo>
                      <a:pt x="91" y="0"/>
                    </a:lnTo>
                    <a:lnTo>
                      <a:pt x="211" y="172"/>
                    </a:lnTo>
                    <a:lnTo>
                      <a:pt x="225" y="344"/>
                    </a:lnTo>
                    <a:lnTo>
                      <a:pt x="200" y="595"/>
                    </a:lnTo>
                    <a:lnTo>
                      <a:pt x="200" y="926"/>
                    </a:lnTo>
                    <a:lnTo>
                      <a:pt x="266" y="1138"/>
                    </a:lnTo>
                    <a:lnTo>
                      <a:pt x="305" y="1244"/>
                    </a:lnTo>
                    <a:lnTo>
                      <a:pt x="358" y="1346"/>
                    </a:lnTo>
                    <a:lnTo>
                      <a:pt x="529" y="1496"/>
                    </a:lnTo>
                    <a:lnTo>
                      <a:pt x="702" y="1761"/>
                    </a:lnTo>
                    <a:lnTo>
                      <a:pt x="716" y="1933"/>
                    </a:lnTo>
                    <a:lnTo>
                      <a:pt x="729" y="2118"/>
                    </a:lnTo>
                    <a:lnTo>
                      <a:pt x="716" y="2397"/>
                    </a:lnTo>
                    <a:lnTo>
                      <a:pt x="741" y="2596"/>
                    </a:lnTo>
                    <a:lnTo>
                      <a:pt x="702" y="2887"/>
                    </a:lnTo>
                    <a:lnTo>
                      <a:pt x="716" y="3033"/>
                    </a:lnTo>
                    <a:lnTo>
                      <a:pt x="716" y="3178"/>
                    </a:lnTo>
                    <a:lnTo>
                      <a:pt x="729" y="3311"/>
                    </a:lnTo>
                    <a:lnTo>
                      <a:pt x="710" y="3487"/>
                    </a:lnTo>
                    <a:lnTo>
                      <a:pt x="738" y="3673"/>
                    </a:lnTo>
                    <a:lnTo>
                      <a:pt x="738" y="3810"/>
                    </a:lnTo>
                    <a:lnTo>
                      <a:pt x="768" y="3951"/>
                    </a:lnTo>
                    <a:lnTo>
                      <a:pt x="782" y="4105"/>
                    </a:lnTo>
                    <a:lnTo>
                      <a:pt x="768" y="4229"/>
                    </a:lnTo>
                    <a:lnTo>
                      <a:pt x="768" y="4370"/>
                    </a:lnTo>
                    <a:lnTo>
                      <a:pt x="738" y="4507"/>
                    </a:lnTo>
                    <a:lnTo>
                      <a:pt x="649" y="4741"/>
                    </a:lnTo>
                    <a:lnTo>
                      <a:pt x="119" y="4737"/>
                    </a:lnTo>
                    <a:lnTo>
                      <a:pt x="214" y="4600"/>
                    </a:lnTo>
                    <a:lnTo>
                      <a:pt x="272" y="4463"/>
                    </a:lnTo>
                    <a:lnTo>
                      <a:pt x="358" y="4370"/>
                    </a:lnTo>
                    <a:lnTo>
                      <a:pt x="416" y="4273"/>
                    </a:lnTo>
                    <a:lnTo>
                      <a:pt x="446" y="4136"/>
                    </a:lnTo>
                    <a:lnTo>
                      <a:pt x="416" y="3951"/>
                    </a:lnTo>
                    <a:lnTo>
                      <a:pt x="416" y="3765"/>
                    </a:lnTo>
                    <a:lnTo>
                      <a:pt x="358" y="3580"/>
                    </a:lnTo>
                    <a:lnTo>
                      <a:pt x="330" y="3439"/>
                    </a:lnTo>
                    <a:lnTo>
                      <a:pt x="272" y="3298"/>
                    </a:lnTo>
                    <a:lnTo>
                      <a:pt x="330" y="3161"/>
                    </a:lnTo>
                    <a:lnTo>
                      <a:pt x="358" y="2834"/>
                    </a:lnTo>
                    <a:lnTo>
                      <a:pt x="388" y="2697"/>
                    </a:lnTo>
                    <a:lnTo>
                      <a:pt x="388" y="2600"/>
                    </a:lnTo>
                    <a:lnTo>
                      <a:pt x="388" y="2415"/>
                    </a:lnTo>
                    <a:lnTo>
                      <a:pt x="358" y="2277"/>
                    </a:lnTo>
                    <a:lnTo>
                      <a:pt x="358" y="1950"/>
                    </a:lnTo>
                    <a:lnTo>
                      <a:pt x="299" y="1814"/>
                    </a:lnTo>
                    <a:lnTo>
                      <a:pt x="272" y="1716"/>
                    </a:lnTo>
                    <a:lnTo>
                      <a:pt x="241" y="1346"/>
                    </a:lnTo>
                    <a:lnTo>
                      <a:pt x="200" y="1337"/>
                    </a:lnTo>
                    <a:lnTo>
                      <a:pt x="107" y="1112"/>
                    </a:lnTo>
                    <a:lnTo>
                      <a:pt x="80" y="926"/>
                    </a:lnTo>
                    <a:lnTo>
                      <a:pt x="66" y="529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6000" y="0"/>
                <a:ext cx="433800" cy="608400"/>
              </a:xfrm>
              <a:custGeom>
                <a:avLst/>
                <a:gdLst/>
                <a:ahLst/>
                <a:rect l="0" t="0" r="r" b="b"/>
                <a:pathLst>
                  <a:path w="1205" h="1690">
                    <a:moveTo>
                      <a:pt x="0" y="0"/>
                    </a:moveTo>
                    <a:lnTo>
                      <a:pt x="490" y="0"/>
                    </a:lnTo>
                    <a:lnTo>
                      <a:pt x="650" y="79"/>
                    </a:lnTo>
                    <a:lnTo>
                      <a:pt x="756" y="171"/>
                    </a:lnTo>
                    <a:lnTo>
                      <a:pt x="888" y="316"/>
                    </a:lnTo>
                    <a:lnTo>
                      <a:pt x="967" y="581"/>
                    </a:lnTo>
                    <a:lnTo>
                      <a:pt x="1035" y="726"/>
                    </a:lnTo>
                    <a:lnTo>
                      <a:pt x="1060" y="977"/>
                    </a:lnTo>
                    <a:lnTo>
                      <a:pt x="1127" y="1268"/>
                    </a:lnTo>
                    <a:lnTo>
                      <a:pt x="1205" y="1690"/>
                    </a:lnTo>
                    <a:lnTo>
                      <a:pt x="959" y="1629"/>
                    </a:lnTo>
                    <a:lnTo>
                      <a:pt x="899" y="1493"/>
                    </a:lnTo>
                    <a:lnTo>
                      <a:pt x="810" y="1352"/>
                    </a:lnTo>
                    <a:lnTo>
                      <a:pt x="751" y="1210"/>
                    </a:lnTo>
                    <a:lnTo>
                      <a:pt x="692" y="889"/>
                    </a:lnTo>
                    <a:lnTo>
                      <a:pt x="633" y="748"/>
                    </a:lnTo>
                    <a:lnTo>
                      <a:pt x="574" y="612"/>
                    </a:lnTo>
                    <a:lnTo>
                      <a:pt x="339" y="427"/>
                    </a:lnTo>
                    <a:lnTo>
                      <a:pt x="279" y="329"/>
                    </a:lnTo>
                    <a:lnTo>
                      <a:pt x="190" y="285"/>
                    </a:lnTo>
                    <a:lnTo>
                      <a:pt x="12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87560" y="3571920"/>
                <a:ext cx="363960" cy="532080"/>
              </a:xfrm>
              <a:custGeom>
                <a:avLst/>
                <a:gdLst/>
                <a:ahLst/>
                <a:rect l="0" t="0" r="r" b="b"/>
                <a:pathLst>
                  <a:path w="1011" h="1478">
                    <a:moveTo>
                      <a:pt x="1011" y="0"/>
                    </a:moveTo>
                    <a:lnTo>
                      <a:pt x="848" y="272"/>
                    </a:lnTo>
                    <a:lnTo>
                      <a:pt x="730" y="364"/>
                    </a:lnTo>
                    <a:lnTo>
                      <a:pt x="641" y="413"/>
                    </a:lnTo>
                    <a:lnTo>
                      <a:pt x="525" y="597"/>
                    </a:lnTo>
                    <a:lnTo>
                      <a:pt x="525" y="734"/>
                    </a:lnTo>
                    <a:lnTo>
                      <a:pt x="525" y="875"/>
                    </a:lnTo>
                    <a:lnTo>
                      <a:pt x="525" y="1016"/>
                    </a:lnTo>
                    <a:lnTo>
                      <a:pt x="467" y="1152"/>
                    </a:lnTo>
                    <a:lnTo>
                      <a:pt x="381" y="1201"/>
                    </a:lnTo>
                    <a:lnTo>
                      <a:pt x="292" y="1245"/>
                    </a:lnTo>
                    <a:lnTo>
                      <a:pt x="202" y="1337"/>
                    </a:lnTo>
                    <a:lnTo>
                      <a:pt x="116" y="1385"/>
                    </a:lnTo>
                    <a:lnTo>
                      <a:pt x="27" y="1478"/>
                    </a:lnTo>
                    <a:lnTo>
                      <a:pt x="0" y="1337"/>
                    </a:lnTo>
                    <a:lnTo>
                      <a:pt x="86" y="1201"/>
                    </a:lnTo>
                    <a:lnTo>
                      <a:pt x="202" y="1108"/>
                    </a:lnTo>
                    <a:lnTo>
                      <a:pt x="264" y="968"/>
                    </a:lnTo>
                    <a:lnTo>
                      <a:pt x="322" y="783"/>
                    </a:lnTo>
                    <a:lnTo>
                      <a:pt x="350" y="597"/>
                    </a:lnTo>
                    <a:lnTo>
                      <a:pt x="350" y="457"/>
                    </a:lnTo>
                    <a:lnTo>
                      <a:pt x="583" y="320"/>
                    </a:lnTo>
                    <a:lnTo>
                      <a:pt x="672" y="320"/>
                    </a:lnTo>
                    <a:lnTo>
                      <a:pt x="789" y="131"/>
                    </a:lnTo>
                    <a:lnTo>
                      <a:pt x="878" y="39"/>
                    </a:lnTo>
                    <a:lnTo>
                      <a:pt x="1011" y="0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608200" y="536400"/>
                <a:ext cx="244800" cy="367200"/>
              </a:xfrm>
              <a:custGeom>
                <a:avLst/>
                <a:gdLst/>
                <a:ahLst/>
                <a:rect l="0" t="0" r="r" b="b"/>
                <a:pathLst>
                  <a:path w="680" h="1020">
                    <a:moveTo>
                      <a:pt x="88" y="44"/>
                    </a:moveTo>
                    <a:lnTo>
                      <a:pt x="88" y="229"/>
                    </a:lnTo>
                    <a:lnTo>
                      <a:pt x="88" y="371"/>
                    </a:lnTo>
                    <a:lnTo>
                      <a:pt x="27" y="415"/>
                    </a:lnTo>
                    <a:lnTo>
                      <a:pt x="0" y="556"/>
                    </a:lnTo>
                    <a:lnTo>
                      <a:pt x="27" y="697"/>
                    </a:lnTo>
                    <a:lnTo>
                      <a:pt x="88" y="697"/>
                    </a:lnTo>
                    <a:lnTo>
                      <a:pt x="174" y="741"/>
                    </a:lnTo>
                    <a:lnTo>
                      <a:pt x="263" y="835"/>
                    </a:lnTo>
                    <a:lnTo>
                      <a:pt x="350" y="976"/>
                    </a:lnTo>
                    <a:lnTo>
                      <a:pt x="438" y="1020"/>
                    </a:lnTo>
                    <a:lnTo>
                      <a:pt x="524" y="1020"/>
                    </a:lnTo>
                    <a:lnTo>
                      <a:pt x="680" y="1007"/>
                    </a:lnTo>
                    <a:lnTo>
                      <a:pt x="680" y="835"/>
                    </a:lnTo>
                    <a:lnTo>
                      <a:pt x="666" y="609"/>
                    </a:lnTo>
                    <a:lnTo>
                      <a:pt x="583" y="556"/>
                    </a:lnTo>
                    <a:lnTo>
                      <a:pt x="522" y="516"/>
                    </a:lnTo>
                    <a:lnTo>
                      <a:pt x="427" y="464"/>
                    </a:lnTo>
                    <a:lnTo>
                      <a:pt x="321" y="331"/>
                    </a:lnTo>
                    <a:lnTo>
                      <a:pt x="282" y="145"/>
                    </a:lnTo>
                    <a:lnTo>
                      <a:pt x="230" y="0"/>
                    </a:lnTo>
                    <a:lnTo>
                      <a:pt x="88" y="44"/>
                    </a:lnTo>
                    <a:close/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ccccff"/>
                </a:solidFill>
                <a:latin typeface="MISTRAL"/>
                <a:ea typeface="MISTRAL"/>
              </a:rPr>
              <a:t>Chelmsford B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2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mple tale of everyday folk at Chelmsford Borough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95600" y="231840"/>
            <a:ext cx="1504800" cy="302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562880" y="3736800"/>
            <a:ext cx="150480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257960" y="231840"/>
            <a:ext cx="150480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685960" y="2746440"/>
            <a:ext cx="1504800" cy="3024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467000" y="3584520"/>
            <a:ext cx="1504800" cy="302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884320" y="623880"/>
            <a:ext cx="24652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. .  and they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i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appily 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114880" y="2803680"/>
            <a:ext cx="1076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75240" y="3763800"/>
            <a:ext cx="43927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O</a:t>
            </a:r>
            <a:r>
              <a:rPr b="1" i="1" lang="en-US" sz="60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ffice</a:t>
            </a:r>
            <a:r>
              <a:rPr b="1" lang="en-US" sz="6000" spc="-1" strike="noStrike">
                <a:solidFill>
                  <a:srgbClr val="99ffcc"/>
                </a:solidFill>
                <a:latin typeface="Univers"/>
                <a:ea typeface="Univers"/>
              </a:rPr>
              <a:t>P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960" y="5043600"/>
            <a:ext cx="163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orld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198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0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tar on Victor Sir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iamond 5 word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l main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pap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19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2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i="1" lang="en-US" sz="2800" spc="-1" strike="noStrike">
                <a:solidFill>
                  <a:srgbClr val="eaeaea"/>
                </a:solidFill>
                <a:latin typeface="Univers"/>
                <a:ea typeface="Univers"/>
              </a:rPr>
              <a:t>VIENNA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arly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/20 spread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for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ull Main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55  dumb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4 P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19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70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44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O</a:t>
            </a:r>
            <a:r>
              <a:rPr b="1" i="1" lang="en-US" sz="44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ffice</a:t>
            </a:r>
            <a:r>
              <a:rPr b="1" lang="en-US" sz="4400" spc="-1" strike="noStrike">
                <a:solidFill>
                  <a:srgbClr val="99ffcc"/>
                </a:solidFill>
                <a:latin typeface="Univers"/>
                <a:ea typeface="Univers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15 dumb termi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40 PC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2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creased use of word processing/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DAP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ved Bull databases to Infor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inks created between Informix and </a:t>
            </a:r>
            <a:r>
              <a:rPr b="1" lang="en-US" sz="28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O</a:t>
            </a:r>
            <a:r>
              <a:rPr b="1" i="1" lang="en-US" sz="28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ffice</a:t>
            </a:r>
            <a:r>
              <a:rPr b="1" i="1" lang="en-US" sz="2800" spc="-1" strike="noStrike">
                <a:solidFill>
                  <a:srgbClr val="99ffcc"/>
                </a:solidFill>
                <a:latin typeface="Univers"/>
                <a:ea typeface="Univers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914400"/>
            <a:ext cx="4724280" cy="990720"/>
          </a:xfrm>
          <a:prstGeom prst="rect">
            <a:avLst/>
          </a:prstGeom>
          <a:solidFill>
            <a:srgbClr val="009999"/>
          </a:solidFill>
          <a:ln w="12600">
            <a:solidFill>
              <a:srgbClr val="eaea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352680"/>
            <a:ext cx="6094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aea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505320"/>
            <a:ext cx="6094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aea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3733920"/>
            <a:ext cx="6094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aea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038480"/>
            <a:ext cx="6094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aea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4343400"/>
            <a:ext cx="6094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aea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1981080"/>
            <a:ext cx="1600200" cy="1295640"/>
          </a:xfrm>
          <a:prstGeom prst="line">
            <a:avLst/>
          </a:prstGeom>
          <a:ln w="12600">
            <a:solidFill>
              <a:srgbClr val="eaeaea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43080" y="2833560"/>
            <a:ext cx="257508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utoma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x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sing UDK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o merg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int doc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60880" y="1020600"/>
            <a:ext cx="4276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Council tax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0160" y="1981080"/>
            <a:ext cx="52592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48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Academy Integrated Housing Management System </a:t>
            </a:r>
            <a:r>
              <a:rPr b="0" lang="en-US" sz="32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links created to </a:t>
            </a:r>
            <a:r>
              <a:rPr b="1" lang="en-US" sz="4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O</a:t>
            </a:r>
            <a:r>
              <a:rPr b="1" i="1" lang="en-US" sz="44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ffice</a:t>
            </a:r>
            <a:r>
              <a:rPr b="1" lang="en-US" sz="4400" spc="-1" strike="noStrike">
                <a:solidFill>
                  <a:srgbClr val="99ffcc"/>
                </a:solidFill>
                <a:latin typeface="Univers"/>
                <a:ea typeface="Univers"/>
              </a:rPr>
              <a:t>Power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for document/E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96040" y="1457280"/>
            <a:ext cx="1285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2320" y="1981080"/>
            <a:ext cx="3809880" cy="43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99ffcc"/>
                </a:solidFill>
                <a:latin typeface="Univers"/>
                <a:ea typeface="Univers"/>
              </a:rPr>
              <a:t>662</a:t>
            </a:r>
            <a:r>
              <a:rPr b="0" lang="en-US" sz="4000" spc="-1" strike="noStrike">
                <a:solidFill>
                  <a:srgbClr val="99ffcc"/>
                </a:solidFill>
                <a:latin typeface="Univers"/>
                <a:ea typeface="Univers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O</a:t>
            </a:r>
            <a:r>
              <a:rPr b="1" i="1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ffice</a:t>
            </a:r>
            <a:r>
              <a:rPr b="1" lang="en-US" sz="2800" spc="-1" strike="noStrike">
                <a:solidFill>
                  <a:srgbClr val="99ffcc"/>
                </a:solidFill>
                <a:latin typeface="Univers"/>
                <a:ea typeface="Univers"/>
              </a:rPr>
              <a:t>Powe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99ffcc"/>
                </a:solidFill>
                <a:latin typeface="Univers"/>
                <a:ea typeface="Univers"/>
              </a:rPr>
              <a:t>116 MS Off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99ffcc"/>
                </a:solidFill>
                <a:latin typeface="Univers"/>
                <a:ea typeface="Univers"/>
              </a:rPr>
              <a:t>177 dumb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99ffcc"/>
                </a:solidFill>
                <a:latin typeface="Univers"/>
                <a:ea typeface="Univers"/>
              </a:rPr>
              <a:t>380 P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99ffcc"/>
                </a:solidFill>
                <a:latin typeface="Univers"/>
                <a:ea typeface="Univers"/>
              </a:rPr>
              <a:t>1997 added links between DMS and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O</a:t>
            </a:r>
            <a:r>
              <a:rPr b="1" i="1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ffice</a:t>
            </a:r>
            <a:r>
              <a:rPr b="1" lang="en-US" sz="2800" spc="-1" strike="noStrike">
                <a:solidFill>
                  <a:srgbClr val="99ffcc"/>
                </a:solidFill>
                <a:latin typeface="Univers"/>
                <a:ea typeface="Univers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1997 - pre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90920" y="1752480"/>
            <a:ext cx="5867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54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O</a:t>
            </a:r>
            <a:r>
              <a:rPr b="0" i="1" lang="en-US" sz="5400" spc="-1" strike="noStrike">
                <a:solidFill>
                  <a:srgbClr val="990066"/>
                </a:solidFill>
                <a:latin typeface="Times New Roman"/>
                <a:ea typeface="Times New Roman"/>
              </a:rPr>
              <a:t>ffice</a:t>
            </a:r>
            <a:r>
              <a:rPr b="1" lang="en-US" sz="5400" spc="-1" strike="noStrike">
                <a:solidFill>
                  <a:srgbClr val="99ffcc"/>
                </a:solidFill>
                <a:latin typeface="Univers"/>
                <a:ea typeface="Univers"/>
              </a:rPr>
              <a:t>Power </a:t>
            </a:r>
            <a:r>
              <a:rPr b="1" lang="en-US" sz="4000" spc="-1" strike="noStrike">
                <a:solidFill>
                  <a:srgbClr val="eaeaea"/>
                </a:solidFill>
                <a:latin typeface="Univers"/>
                <a:ea typeface="Univers"/>
              </a:rPr>
              <a:t>for win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eaeaea"/>
                </a:solidFill>
                <a:latin typeface="Univers"/>
                <a:ea typeface="Univers"/>
              </a:rPr>
              <a:t>788 OP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eaeaea"/>
                </a:solidFill>
                <a:latin typeface="Univers"/>
                <a:ea typeface="Univers"/>
              </a:rPr>
              <a:t>179 MS Office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eaeaea"/>
                </a:solidFill>
                <a:latin typeface="Univers"/>
                <a:ea typeface="Univers"/>
              </a:rPr>
              <a:t>161 dumb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eaeaea"/>
                </a:solidFill>
                <a:latin typeface="Univers"/>
                <a:ea typeface="Univers"/>
              </a:rPr>
              <a:t>410 P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1" lang="en-US" sz="2800" spc="-1" strike="noStrike">
                <a:solidFill>
                  <a:srgbClr val="eaeaea"/>
                </a:solidFill>
                <a:latin typeface="Univers"/>
                <a:ea typeface="Univers"/>
              </a:rPr>
              <a:t>33 lap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cc66"/>
                </a:solidFill>
                <a:latin typeface="Impact"/>
                <a:ea typeface="Impact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2320" y="1981080"/>
            <a:ext cx="3809880" cy="63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4000" spc="-1" strike="noStrike">
                <a:solidFill>
                  <a:srgbClr val="ff99ff"/>
                </a:solidFill>
                <a:latin typeface="Impact"/>
                <a:ea typeface="Impact"/>
              </a:rPr>
              <a:t>INTERNET E-M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4000" spc="-1" strike="noStrike">
                <a:solidFill>
                  <a:srgbClr val="ff99ff"/>
                </a:solidFill>
                <a:latin typeface="Impact"/>
                <a:ea typeface="Impact"/>
              </a:rPr>
              <a:t>WEB BROWSER ACCESS TO OFFICE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3366"/>
              </a:buClr>
              <a:buSzPct val="55000"/>
              <a:buFont typeface="Monotype Sorts"/>
              <a:buChar char=""/>
            </a:pPr>
            <a:r>
              <a:rPr b="0" lang="en-US" sz="4000" spc="-1" strike="noStrike">
                <a:solidFill>
                  <a:srgbClr val="ff99ff"/>
                </a:solidFill>
                <a:latin typeface="Impact"/>
                <a:ea typeface="Impact"/>
              </a:rPr>
              <a:t>MAY 1999 MEMBERS ON-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elmsford Borough Council</dc:creator>
  <dc:description/>
  <dc:language>en-US</dc:language>
  <cp:lastModifiedBy>Chelmsford Borough Council</cp:lastModifiedBy>
  <cp:revision>0</cp:revision>
  <dc:subject/>
  <dc:title>No Slide Title</dc:title>
</cp:coreProperties>
</file>