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1699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11268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4771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CEEB-1A63-45D4-99EC-9C1A3DCF34A9}" type="datetime5">
              <a:rPr b="0" lang="en-US" sz="800" spc="-1" strike="noStrike">
                <a:solidFill>
                  <a:srgbClr val="808080"/>
                </a:solidFill>
                <a:latin typeface="Arial Narrow"/>
              </a:rPr>
              <a:t>Jul 31, 2026</a:t>
            </a:fld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90040" y="648324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uji" descr=""/>
          <p:cNvPicPr/>
          <p:nvPr/>
        </p:nvPicPr>
        <p:blipFill>
          <a:blip r:embed="rId2"/>
          <a:stretch/>
        </p:blipFill>
        <p:spPr>
          <a:xfrm>
            <a:off x="8312040" y="198360"/>
            <a:ext cx="595440" cy="290520"/>
          </a:xfrm>
          <a:prstGeom prst="rect">
            <a:avLst/>
          </a:prstGeom>
          <a:ln w="0">
            <a:noFill/>
          </a:ln>
        </p:spPr>
      </p:pic>
      <p:pic>
        <p:nvPicPr>
          <p:cNvPr id="6" name="logo" descr=""/>
          <p:cNvPicPr/>
          <p:nvPr/>
        </p:nvPicPr>
        <p:blipFill>
          <a:blip r:embed="rId3"/>
          <a:stretch/>
        </p:blipFill>
        <p:spPr>
          <a:xfrm>
            <a:off x="8307360" y="5715000"/>
            <a:ext cx="68436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5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 page </a:t>
            </a:r>
            <a:fld id="{F0E76497-2423-4C36-8BB0-BB540A6E9442}" type="slidenum"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90512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21E-8A68-4617-AF29-44E08560CAA8}" type="datetime5">
              <a:rPr b="0" lang="en-US" sz="800" spc="-1" strike="noStrike">
                <a:solidFill>
                  <a:srgbClr val="808080"/>
                </a:solidFill>
                <a:latin typeface="Arial Narrow"/>
              </a:rPr>
              <a:t>Jul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040" y="648324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uji_w" descr=""/>
          <p:cNvPicPr/>
          <p:nvPr/>
        </p:nvPicPr>
        <p:blipFill>
          <a:blip r:embed="rId2"/>
          <a:stretch/>
        </p:blipFill>
        <p:spPr>
          <a:xfrm>
            <a:off x="8305920" y="203040"/>
            <a:ext cx="60948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logo_w" descr=""/>
          <p:cNvPicPr/>
          <p:nvPr/>
        </p:nvPicPr>
        <p:blipFill>
          <a:blip r:embed="rId3"/>
          <a:stretch/>
        </p:blipFill>
        <p:spPr>
          <a:xfrm>
            <a:off x="8302680" y="5715000"/>
            <a:ext cx="68904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259056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Enjoying the Internet with TeamWARE</a:t>
            </a:r>
            <a:endParaRPr b="1" lang="en-US" sz="36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.weitzel@teamware.co.u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PERA, Oxfo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3 May 199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2900160" y="5500800"/>
            <a:ext cx="2800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www.team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E34C01-3456-43E7-83D0-AA940638BA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l@za for Membership Associations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member - membe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ed by TeamWARE Onlin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existing websites for communitie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groups, document stores, event publish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structures, branches,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membership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evelopments by Sept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, voting, chat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17A41-810C-4A21-9CB1-EACDDB92BC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eamWARE can help your experience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24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you aware o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24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ing connected material from your own PERSONAL knowledge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24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ing your business proces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16452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16452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24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interaction within the Association space on the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24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connection to your intranet from/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8CB47-B0B9-4980-A3F4-22AB25DFF1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419720" cy="243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47960" y="4191120"/>
            <a:ext cx="2800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www.team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hank You!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865EC-E5AC-484D-BF2C-81B665540EF7}" type="datetime5">
              <a:rPr lang="en-US"/>
              <a:t>Jul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 can talk abou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may find for business and person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5E3E2-9034-4055-9104-D95D6C9758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UK.com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o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nd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95680" y="1066680"/>
            <a:ext cx="3504960" cy="4343040"/>
            <a:chOff x="4495680" y="1066680"/>
            <a:chExt cx="3504960" cy="4343040"/>
          </a:xfrm>
        </p:grpSpPr>
        <p:sp>
          <p:nvSpPr>
            <p:cNvPr id="95" name=""/>
            <p:cNvSpPr/>
            <p:nvPr/>
          </p:nvSpPr>
          <p:spPr>
            <a:xfrm>
              <a:off x="4670640" y="1764360"/>
              <a:ext cx="3330000" cy="3257280"/>
            </a:xfrm>
            <a:custGeom>
              <a:avLst/>
              <a:gdLst/>
              <a:ahLst/>
              <a:rect l="l" t="t" r="r" b="b"/>
              <a:pathLst>
                <a:path w="2736" h="2016">
                  <a:moveTo>
                    <a:pt x="0" y="2016"/>
                  </a:moveTo>
                  <a:lnTo>
                    <a:pt x="912" y="1440"/>
                  </a:lnTo>
                  <a:lnTo>
                    <a:pt x="1392" y="1344"/>
                  </a:lnTo>
                  <a:lnTo>
                    <a:pt x="1680" y="1008"/>
                  </a:lnTo>
                  <a:lnTo>
                    <a:pt x="2352" y="864"/>
                  </a:lnTo>
                  <a:lnTo>
                    <a:pt x="2736" y="0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5409720"/>
              <a:ext cx="338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495680" y="1066680"/>
              <a:ext cx="0" cy="43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F96C4-8F52-4F8E-B81F-12480108F4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eamWARE and the Internet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software, designed to make life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o improve the personal and combined knowledge of corporates and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, collaboration and process software designed to Open Intern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with IMAP Mai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with Mobile Phone security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with Secure Mail contract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with web based workflow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D5B81-42D1-4DDA-98B7-11988B6971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Internet Uses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24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7000" indent="-207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on (the virtual company and global mark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separat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lick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tele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251460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9E1C1-1BA3-42F1-83F9-CFD89058CB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onstratio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 Brow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S - last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@za for Membership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F6C90-7ED4-48A6-BD60-34A8D7EE43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Knowledge Browser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s as a personal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 you to new items within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s Microsoft Subscri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YOUR usage and establishes a knowledge base of your web pag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s, frequency, alignment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e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45548-76EE-41E8-ACED-ACE712D6BA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WISS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cure access from Internet to Corporate intr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by authorization using Public key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bit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restricted by application, time, volume of transmission, dates and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y web device or for Virtual Priva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3C049-EB4A-4D7D-BBA3-4DCC358EB4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rocess Publishing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ocessWise Work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ublishing on Intranets of corporate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rom any workflo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5E9E-02A0-4D83-AD51-AAA83200D1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14:57:38Z</dcterms:created>
  <dc:creator>Dave Weitzel</dc:creator>
  <dc:description/>
  <dc:language>en-US</dc:language>
  <cp:lastModifiedBy>Iain Sewell</cp:lastModifiedBy>
  <dcterms:modified xsi:type="dcterms:W3CDTF">1999-05-14T14:28:24Z</dcterms:modified>
  <cp:revision>3</cp:revision>
  <dc:subject/>
  <dc:title>Enjoying the Internet with TeamWARE</dc:title>
</cp:coreProperties>
</file>