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63800" y="6435720"/>
            <a:ext cx="5743440" cy="112680"/>
          </a:xfrm>
          <a:prstGeom prst="rect">
            <a:avLst/>
          </a:prstGeom>
          <a:gradFill rotWithShape="0">
            <a:gsLst>
              <a:gs pos="0">
                <a:srgbClr val="ca99f4"/>
              </a:gs>
              <a:gs pos="100000">
                <a:srgbClr val="7b00e4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8693280" y="6567480"/>
            <a:ext cx="297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EC5EA4F3-86E3-4D3D-81C0-F1A80C22A49F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162920" y="6620040"/>
            <a:ext cx="178596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</a:pPr>
            <a:r>
              <a:rPr b="1" i="1" lang="en-US" sz="1200" spc="-1" strike="noStrike">
                <a:solidFill>
                  <a:srgbClr val="9234db"/>
                </a:solidFill>
                <a:latin typeface="Arial"/>
                <a:ea typeface="Arial"/>
              </a:rPr>
              <a:t>www.OfficePower.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990720" y="6514920"/>
            <a:ext cx="1266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PMIME.PPT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03400" y="1095480"/>
            <a:ext cx="7728120" cy="117360"/>
          </a:xfrm>
          <a:prstGeom prst="rect">
            <a:avLst/>
          </a:prstGeom>
          <a:gradFill rotWithShape="0">
            <a:gsLst>
              <a:gs pos="0">
                <a:srgbClr val="ca99f4"/>
              </a:gs>
              <a:gs pos="100000">
                <a:srgbClr val="7b00e4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786720" y="6195960"/>
            <a:ext cx="2176560" cy="3938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 txBox="1"/>
          <p:nvPr/>
        </p:nvSpPr>
        <p:spPr>
          <a:xfrm>
            <a:off x="8202600" y="6111720"/>
            <a:ext cx="325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066680" y="6019920"/>
            <a:ext cx="622440" cy="3938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1676520" y="6095880"/>
            <a:ext cx="1460520" cy="3175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Pow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Mail Gate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ard Lu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7948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as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22480" y="1325520"/>
            <a:ext cx="7729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as.txt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internet/X.400 address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 available to build alias text file from public/dist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Power Directory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OPAliasLibrary to umg.ini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restrict access to Internet by only allowing users with alias address to use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7948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alias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22480" y="1325520"/>
            <a:ext cx="7729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hp/programs/inetgw/build_al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ally generate alias.txt file from public/dist distribution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opt/x400umg/bin/umgali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s the alias.txt file for use by gateway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7948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mail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22480" y="1325520"/>
            <a:ext cx="7729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mail -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s rules configured in sendmail.cf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mail -b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hat address is deliv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mail -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bose mode to see tracing information when talking to/from 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7948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MG 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22480" y="1325520"/>
            <a:ext cx="7729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s Installation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s test message to OfficePower user from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s test message to an internet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ew sample sendmail.cf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7948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t work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22480" y="1325520"/>
            <a:ext cx="7729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pimg and check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endmail.cf rules using sendmail -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pimg and send test message to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pimg and send test message to Internet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link between OfficePower user and Internet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tf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7948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 Name Service (D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22480" y="1325520"/>
            <a:ext cx="7729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 may require DNS 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ISP DNS server to /etc/resolv.conf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add relayhost (defined in sendmail.cf) as static IP address to /etc/hosts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stations login takes a lon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mpting to use ISP DNS server to find workstation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workstation IP addresses to /etc/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7948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22480" y="1325520"/>
            <a:ext cx="7729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way between UNIX mail and Office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s X.400 messages to RFC-822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s RFC-822 messages to X.400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transfer of messages and attac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7948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22480" y="1325520"/>
            <a:ext cx="7729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connection to Internet Service Provider (I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connections inhouse to other UNIX mail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quired to be installed on one OfficePower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 of OfficePower nodes only need gateway dlist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723096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7948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22480" y="1325520"/>
            <a:ext cx="7729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easy and quick to ins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documentation on CD-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cy upon local UNIX sendmail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required for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7948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llation Step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22480" y="1325520"/>
            <a:ext cx="7729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e Sendmail to talk to 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OfficePower gateway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ll gateway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e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e Sendmail to send/receive to/from Office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7948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mail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122480" y="1325520"/>
            <a:ext cx="7729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know how to configure send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ts of manuals about sendmail conf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network in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t knowledge available from I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7948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122480" y="1325520"/>
            <a:ext cx="7729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etc/opt/x400umg/umg.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etc/opt/x400umg/alias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UBLIC]/dist~fl/gateway~fl/dlist~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usr/ucblib/sendmail.c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79480" y="220680"/>
            <a:ext cx="76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122480" y="1325520"/>
            <a:ext cx="7729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ICLMAIL]/etc/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usr/tmp/pro_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var/log/send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var/opt/x400umg/log.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xine Bruce</dc:creator>
  <dc:description/>
  <dc:language>en-US</dc:language>
  <cp:lastModifiedBy>Richard Lumb</cp:lastModifiedBy>
  <cp:revision>0</cp:revision>
  <dc:subject/>
  <dc:title>No Slide Title</dc:title>
</cp:coreProperties>
</file>