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9328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42D58504-95F9-435D-82DB-06FE8AAD3B3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162920" y="6620040"/>
            <a:ext cx="17859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1" i="1" lang="en-US" sz="1200" spc="-1" strike="noStrike">
                <a:solidFill>
                  <a:srgbClr val="9234db"/>
                </a:solidFill>
                <a:latin typeface="Arial"/>
                <a:ea typeface="Arial"/>
              </a:rPr>
              <a:t>www.OfficePower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3400" y="1095480"/>
            <a:ext cx="7728120" cy="117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-4680" y="-4680"/>
            <a:ext cx="9153360" cy="26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ICL Franklin Heavy"/>
                <a:ea typeface="ICL Franklin Heavy"/>
              </a:rPr>
              <a:t>E Y E S     O N      T H E     F U T U R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-4680" y="6608880"/>
            <a:ext cx="9153360" cy="26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ICL Franklin Heavy"/>
                <a:ea typeface="ICL Franklin Heavy"/>
              </a:rPr>
              <a:t>F E E T      O N      T H E      G R O U 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1828800"/>
            <a:ext cx="774720" cy="426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828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Pow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Mail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Lumb, 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know how to configure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manuals about sendmail 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network i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 knowledge available from 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.tx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internet/X.400 address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 available to build alias text file from public/dist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Power Director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strict access to Internet by only allowing users with alias address to use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MG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 Installa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test message to OfficePower user from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test message to an interne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ew sample sendmail.c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various lo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evidence for 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omeone who has been the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411200"/>
            <a:ext cx="7729560" cy="66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ly configure Sendmail.c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 will require DNS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out for long login delays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local IP addresses to /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at address format/s you wil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43000" y="1295280"/>
            <a:ext cx="7729560" cy="55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SP to install and configur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assword on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security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rewall capability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your ISDN  phone bill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between UNIX mail and Office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X.400 messages to RFC-822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RFC-822 messages to X.400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transfer of messages and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nection to Internet Service Provider (I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nections inhouse to other UNIX mai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quired to be installed on one OfficePowe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 of OfficePower nodes only need gateway dlist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7080" y="531720"/>
            <a:ext cx="72486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y so fa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1600200"/>
            <a:ext cx="7729560" cy="59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OP Customers now using internet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, very few support issues once installed and config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L have experienced people to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rovide a cost effective service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conside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the Co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ice Provider (ISP)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R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&amp; configuration of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 mail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/Xtra V3 software license/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NIX/OP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stall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129528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ice Provider (ISP)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comms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endmail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MG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1335240"/>
            <a:ext cx="7729560" cy="53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3 Base Licenc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asy and quick to ins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ocumentation on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y upon local UNIX sendmai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quired for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ine Bruce</dc:creator>
  <dc:description/>
  <dc:language>en-US</dc:language>
  <cp:lastModifiedBy>Richard Lumb</cp:lastModifiedBy>
  <cp:revision>0</cp:revision>
  <dc:subject/>
  <dc:title>No Slide Title</dc:title>
</cp:coreProperties>
</file>