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7D5-A0C0-4CA3-85CC-F8AEBEAC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465-4AB1-488E-A290-1291321E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8AA2-440F-4C39-BD50-72D4AD7D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9E7-B555-4555-99C9-F60783C9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B047-1393-4486-A384-D86E2088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8711-D292-4442-A8FB-1204816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F9AB-9E80-487F-BFD0-B4D33E4E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FA4B-D9B0-451B-8592-ECCBBBD0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349E-3FA9-4FFE-B964-C7973C86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0D57-28BB-486A-8C97-0F6E7C7E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6C9D-7847-430D-8B98-D382720D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151-5889-4C6A-9644-77D9BB28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334A-D9B6-4A6A-BBF6-420A723C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80AF-6EB2-4496-928B-F25D6C2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497C-254B-4DA9-ABE0-91FA574C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CC0A-5A90-49FB-B4EC-2948D8FD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A19C-86CE-476C-89B6-80C2ACC0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B39-29B3-49F6-995F-08BB8743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426-B4B8-41AC-8822-925C3721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2AF-5D59-4C33-8ABA-316F81DE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00C-F66E-4504-97A8-C3169BB5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702-67CE-4932-888D-111D43C5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0A1-8FA6-417C-B319-738041E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49D3-7196-47BA-A25F-D5877620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scclight" descr="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home1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4724280" cy="1230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tegrating Mail and Directory Systems at Suffolk County Counc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723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ilip Barbr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ject Manager (Office Autom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hilip.barbrook@isis.suffolkcc.gov.uk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www.suffolkcc.gov.uk/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1473-5844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at was required…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 SMTP backb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400/SMTP gatewa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al Mail User Datab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mated Directory Synchroniz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achment Handling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Flight Virus Chec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ity and resil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Pla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120" y="2362320"/>
          <a:ext cx="7881840" cy="34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788184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MTP Backbo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r network was TCP/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systems could be connected to 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et Mail requir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in house skills than x4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dmail’ is fre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400/SMTP Gatewa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lot of good products avail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dered 4 produ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ed two - Isocor and Net-T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se Net-Tel Route4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e: Exchange is not a good gatewa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entral Mail User Databas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ld in OfficePower UD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reed directory standard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very recipient within the council will have a SMTP mail add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tandard mail address format is: first.last@dept.suffolkcc.gov.u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or this system to work, each person can only have one point of delivery for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their mai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utomated Synchroniz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ghtly Cron / AT job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l Scripts on Unix and 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dates Exchange, OfficePower and Internet mail gatewa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il Attachment Handl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big thing……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flight conversion of OP to asc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uncil wide standard of wfw 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 edu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ill a big thing……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rus Check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 of Internet ma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lem of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tern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a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ation of PC Virus check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Internet mail in/out check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za MimeSweeper produ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ther uses, disclaimers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curity and Resilien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et mail via “firewall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ep Software up to 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nitor logs and unusual ev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ting of servers in different lo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e routes for mail traff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backup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are Server Hard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the systems are linke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2362320"/>
          <a:ext cx="7882200" cy="34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8822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r Main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connect all the disparate email systems within the counc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provide automated directory synchronization between th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this, at minimal ongoing cost and allowing for future expan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at a gateway do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ranslates’ addresses fro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/c=gb/a= /p=scc/o=scc /s=Apple/i=AB/g=Andy/ou1=sparc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y.A.B.Apple@sparc1.op.suffolkcc.gov.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at the user database do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writes’ addresses fro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y.A.B.Apple@sparc1.op.suffolkcc.gov.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ndy.Apple@cis.suffolkcc.gov.u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ail Rout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14400" y="2286000"/>
          <a:ext cx="741060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741060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ccess!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lled on time - 1st March 199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700 mail addresses in direc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00+ messages handled a da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10 months 581 users have sent 18000 Internet mail mess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ack To The Future - Phase 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e Db from UDAP to flat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Administration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 ‘spam’ 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 reporting &amp; Billing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500 direc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 integration with Schools Internet Initiative in Suffol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arly Days - 199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rge OfficePower Network - 35 servers - 1800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arate Uniplex Network - 250+ servers - 1500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connected in 1989 by simple X400/SMTP gateway, crude but effective manual directory synchron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ever it only handled plain text mess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arly Days - 199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2057400"/>
          <a:ext cx="857412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57400"/>
                    <a:ext cx="857412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ow! That would be good…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L’s Community Network in 199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ks to other councils and ICL via X400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pecially districts and boroughs in the coun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733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t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4572000"/>
            <a:ext cx="7391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scope, no Internet at th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enough control over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didn’t think it value for mon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Next Stage: Politic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proposed a strategic 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departments had to take ownership of it to make it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ed at the mark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uppliers suggested technical solu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was paying for i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supplier cho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at was 199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chnology ?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lie -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product will do it all 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bination of technolog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ized for our specific nee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le enough to change and gro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ime scale &amp; 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fter 18 months “deciding” which solution, we were given 8 weeks to implement an operation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of tw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o weeks worth of consulta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dget of £35,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be connected…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ficePower (x400) - 1200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plex (SMTP) - 1500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S-Exchange (SMTP/x400) - 700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vell MHS (SMTP) - 150 us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able regulated Internet Mail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5:24:07Z</dcterms:created>
  <dc:creator>Philip Barbrook</dc:creator>
  <dc:description/>
  <dc:language>en-US</dc:language>
  <cp:lastModifiedBy>Philip Barbrook</cp:lastModifiedBy>
  <cp:lastPrinted>1998-06-20T09:35:29Z</cp:lastPrinted>
  <dcterms:modified xsi:type="dcterms:W3CDTF">1998-06-20T09:58:37Z</dcterms:modified>
  <cp:revision>9</cp:revision>
  <dc:subject/>
  <dc:title>Integrating Mail and Directory Systems at Suffolk County Council</dc:title>
</cp:coreProperties>
</file>