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86652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606-D309-4C1B-B1DB-61FA64A52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likely audience then everybody’s organisation will be doing something about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aise awareness of the organisation and sta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ompliance clause for all suppliers (09/9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 Year 2000 Working Group !! (04/9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epartmental Managers owning the problem (06/98) Not just IT!!!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lennium Staff Cover and Payment arrangements (03/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usiness Impact Evaluation (07/9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dentify and undertake Remedial Work (07/98-??/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on’t forgot non-ICT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verybody’s problem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likely audience then everybody’s organisation will be doing something about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likely audience then everybody’s organisation will be doing something about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likely audience then everybody’s organisation will be doing something about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likely audience then everybody’s organisation will be doing something about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ven the likely audience then everybody’s organisation will be doing something about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898-F30A-46B8-A10D-C928D016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227-CFA3-467E-9991-ED239A53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BD2-57CB-4BB1-A3C0-353ED7D1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4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0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77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4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0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8DE-4961-4439-8F06-646581A2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6621-9C09-4D18-8949-840A8E4D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87B-7C77-4DCC-A521-1600B42E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6AD0-972C-4625-91CB-DC0CCF70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6EF0-73C1-4ABA-915A-967F78CB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487C-E358-4D40-A62D-BD1052D7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0118-005E-4AB6-AB65-0D16440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EEE0-4EFB-4D32-BD12-9D73A45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9E3-D3D6-4F4A-8830-8D701AFC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7A89-117F-4C2F-AB84-3857ADC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94D3-431E-4180-9D65-3204FBE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5502-EC94-402F-9061-C8D98335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D55F-4072-4609-93EC-413C10C3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4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0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4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0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BA06-2461-485F-B7B3-D25A243D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7D5-7AB3-4AC6-A455-6F3DE524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E6E-D7D5-434A-951D-4E82BF27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785-87D0-438C-B15E-CA98D2E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9A3-8254-46CF-8DC8-15D60A94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CBF-A7A7-4E88-A94F-0138175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017-549B-435B-AB3C-8E39AC9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803-32E2-4F0F-BF89-EB64833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9DF5-0748-4E70-A565-416975EC44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scc1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544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rcRect l="0" t="0" r="77464" b="-552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05120"/>
            <a:ext cx="8456760" cy="16002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04C2-9187-4F83-A41D-DB163F69FC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77464" b="-552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Comic Sans MS"/>
              </a:rPr>
              <a:t>Year 2000: </a:t>
            </a:r>
            <a:br>
              <a:rPr sz="4000"/>
            </a:br>
            <a:r>
              <a:rPr b="0" lang="en-US" sz="4000" spc="-1" strike="noStrike">
                <a:solidFill>
                  <a:srgbClr val="cbcbcb"/>
                </a:solidFill>
                <a:latin typeface="Comic Sans MS"/>
              </a:rPr>
              <a:t>Last Chance Saloon</a:t>
            </a:r>
            <a:endParaRPr b="0" lang="en-US" sz="40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5028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ilip Bar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ilip.barbrook@isis.suffolkcc.gov.uk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suffolkcc.gov.uk/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473-5844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 of Strategic Management – Suffolk County Counc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Remedial Work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ce priorities identified – get on with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assle suppliers as much as you lik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eate a reporting mechanism to publish progr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Final Word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’s not too late - Don’t despair ( about anything in fac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t then I’m preaching to the converted am I not?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omic Sans MS"/>
              </a:rPr>
              <a:t>What are YOU doing?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 you work in I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n it affects yo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 you work in Business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n it affects yo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 you work in Governmen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n it affects yo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body’s problem 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omic Sans MS"/>
              </a:rPr>
              <a:t>An Approach to the problem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aise awareness of the organisation and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n’t forgot non-ICT 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mpliance clause for all supplier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Year 2000 Working Group !!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t Business Managers owning the problem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ennium Staff Cover and Payment arrangement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siness Impact Evalu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y and undertake Remedial 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e prepared to act next Janu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body’s problem 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But if you’ve done all that…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n you have probably nothing much to worry abou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eave equipment turned on New Years Eve, I will b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t all my colleagues will be howe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bably not a good idea to schedule batch jobs that night (as if you were likely to anywa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ock up on fine wine and invite round good company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gn up for your employers inflated call out and overtime scheme and buy a good boo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Raising Awareness 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ell ‘they’ probably know all about it by n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t make sure ‘they’ are kept informed of what you are do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olve them in the process, ‘they’ may identify something that has been forgotten so f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ver too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Embedded Systems – eh?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CT people are the worst at using alarm systems and access control 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t somebody runs t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 they have a Year2000 pla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ost likely they do because the supplier will have at least mentioned it once in a marketing mail sho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clude the Building Managers in your working gro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Ah – another Working Group!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t probably the most important one at the mo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presentatives from all depart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ke sure the members have some “clout” in their depart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t by then, the Senior Manager in the department will have owned the Y2K problem in his/her patch (??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stribute  any documentation to senior management grou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Staff Cover over the Holiday Period”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rganise it now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body else is offering incentiv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ll they’re not actually, but it seems that w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finitely don’t leave this to ch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omic Sans MS"/>
              </a:rPr>
              <a:t>Business Impact Evaluation</a:t>
            </a:r>
            <a:endParaRPr b="0" lang="en-US" sz="3200" spc="-1" strike="noStrike">
              <a:solidFill>
                <a:srgbClr val="cbcbcb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t this late stage, this is very impor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likely you fix everything before January 20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ioritise on mission critical system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ill it put me out of business?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ke a plan and set a timesca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ke sure others buy into it and understand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5:24:07Z</dcterms:created>
  <dc:creator>Philip Barbrook</dc:creator>
  <dc:description/>
  <dc:language>en-US</dc:language>
  <cp:lastModifiedBy>Philip Barbrook</cp:lastModifiedBy>
  <cp:lastPrinted>1998-11-04T18:40:33Z</cp:lastPrinted>
  <dcterms:modified xsi:type="dcterms:W3CDTF">1999-04-17T11:17:44Z</dcterms:modified>
  <cp:revision>30</cp:revision>
  <dc:subject/>
  <dc:title>Y2k Last Chance Saloon</dc:title>
</cp:coreProperties>
</file>